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7.png" ContentType="image/png"/>
  <Override PartName="/ppt/media/image19.png" ContentType="image/png"/>
  <Override PartName="/ppt/media/image8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1046484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92760"/>
            <a:ext cx="1046484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92760"/>
            <a:ext cx="1046484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1046484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92760"/>
            <a:ext cx="1046484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18921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18921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927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927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927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1892160"/>
            <a:ext cx="10464840" cy="74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1046484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92760"/>
            <a:ext cx="1046484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1046484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92760"/>
            <a:ext cx="1046484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18921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18921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927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927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927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18921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18921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927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927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927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1892160"/>
            <a:ext cx="10464840" cy="74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1046484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92760"/>
            <a:ext cx="1046484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1046484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92760"/>
            <a:ext cx="1046484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18921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18921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927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927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927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1892160"/>
            <a:ext cx="10464840" cy="74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1046484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1892160"/>
            <a:ext cx="10464840" cy="74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92760"/>
            <a:ext cx="1046484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1046484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92760"/>
            <a:ext cx="1046484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18921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18921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927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927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927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1892160"/>
            <a:ext cx="10464840" cy="74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1046484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1046484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92760"/>
            <a:ext cx="1046484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1046484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92760"/>
            <a:ext cx="1046484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18921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18921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927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927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927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1892160"/>
            <a:ext cx="10464840" cy="74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1046484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92760"/>
            <a:ext cx="1046484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1046484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92760"/>
            <a:ext cx="1046484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18921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18921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927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927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927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1892160"/>
            <a:ext cx="10464840" cy="74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92760"/>
            <a:ext cx="1046484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1046484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92760"/>
            <a:ext cx="1046484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18921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18921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927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927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927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1892160"/>
            <a:ext cx="10464840" cy="74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1046484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1046484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92760"/>
            <a:ext cx="1046484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1046484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92760"/>
            <a:ext cx="1046484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18921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18921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927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927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927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1892160"/>
            <a:ext cx="10464840" cy="74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1046484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92760"/>
            <a:ext cx="1046484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1046484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92760"/>
            <a:ext cx="1046484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18921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18921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927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927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927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1892160"/>
            <a:ext cx="10464840" cy="74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1046484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92760"/>
            <a:ext cx="1046484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1046484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92760"/>
            <a:ext cx="1046484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18921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18921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927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927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927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1892160"/>
            <a:ext cx="10464840" cy="74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1046484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92760"/>
            <a:ext cx="1046484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1046484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92760"/>
            <a:ext cx="1046484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18921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18921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927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927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927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1892160"/>
            <a:ext cx="10464840" cy="74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1046484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92760"/>
            <a:ext cx="1046484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1046484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92760"/>
            <a:ext cx="1046484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18921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18921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927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927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927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1892160"/>
            <a:ext cx="10464840" cy="74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1046484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92760"/>
            <a:ext cx="1046484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92760"/>
            <a:ext cx="1046484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1046484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92760"/>
            <a:ext cx="1046484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18921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92760"/>
            <a:ext cx="5106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18921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18921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927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927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92760"/>
            <a:ext cx="3369600" cy="356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1892160"/>
            <a:ext cx="10464840" cy="74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1892160"/>
            <a:ext cx="1046484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36576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77724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11887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160020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160020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160020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05040"/>
            <a:ext cx="50418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55332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00000" indent="-385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46680" indent="-385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9336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4004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4004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4004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177480"/>
            <a:ext cx="10464840" cy="259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760"/>
            <a:ext cx="10464840" cy="698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0956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154160" indent="-4939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598760" indent="-4939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204300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48760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48760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48760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05040"/>
            <a:ext cx="396252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46116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988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3896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2768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1676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1676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1676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05040"/>
            <a:ext cx="50418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55332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00000" indent="-385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46680" indent="-385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9336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4004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4004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4004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1892160"/>
            <a:ext cx="1046484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8732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31920" indent="-571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6520" indent="-571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12076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6536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6536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6536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6847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07172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45836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45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31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31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31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40644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86364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132084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177804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177804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177804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40644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86364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132084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177804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177804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177804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8.png"/><Relationship Id="rId7" Type="http://schemas.openxmlformats.org/officeDocument/2006/relationships/image" Target="../media/image17.png"/><Relationship Id="rId8" Type="http://schemas.openxmlformats.org/officeDocument/2006/relationships/image" Target="../media/image16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26.png"/><Relationship Id="rId3" Type="http://schemas.openxmlformats.org/officeDocument/2006/relationships/image" Target="../media/image40.png"/><Relationship Id="rId4" Type="http://schemas.openxmlformats.org/officeDocument/2006/relationships/image" Target="../media/image27.png"/><Relationship Id="rId5" Type="http://schemas.openxmlformats.org/officeDocument/2006/relationships/image" Target="../media/image41.png"/><Relationship Id="rId6" Type="http://schemas.openxmlformats.org/officeDocument/2006/relationships/image" Target="../media/image10.png"/><Relationship Id="rId7" Type="http://schemas.openxmlformats.org/officeDocument/2006/relationships/image" Target="../media/image42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image" Target="../media/image66.png"/><Relationship Id="rId6" Type="http://schemas.openxmlformats.org/officeDocument/2006/relationships/image" Target="../media/image67.png"/><Relationship Id="rId7" Type="http://schemas.openxmlformats.org/officeDocument/2006/relationships/image" Target="../media/image68.png"/><Relationship Id="rId8" Type="http://schemas.openxmlformats.org/officeDocument/2006/relationships/image" Target="../media/image69.png"/><Relationship Id="rId9" Type="http://schemas.openxmlformats.org/officeDocument/2006/relationships/image" Target="../media/image70.png"/><Relationship Id="rId10" Type="http://schemas.openxmlformats.org/officeDocument/2006/relationships/image" Target="../media/image71.png"/><Relationship Id="rId1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image" Target="../media/image77.png"/><Relationship Id="rId7" Type="http://schemas.openxmlformats.org/officeDocument/2006/relationships/image" Target="../media/image78.png"/><Relationship Id="rId8" Type="http://schemas.openxmlformats.org/officeDocument/2006/relationships/image" Target="../media/image79.png"/><Relationship Id="rId9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5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  <a:ea typeface="굴림"/>
              </a:rPr>
              <a:t>Computing Diffeomorphic Paths for Large Motion Interpolation</a:t>
            </a:r>
            <a:br>
              <a:rPr sz="7000"/>
            </a:b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69720" y="538452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굴림"/>
              </a:rPr>
              <a:t>Paper number : 1342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굴림"/>
              </a:rPr>
              <a:t>Supplementary material submission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6"/>
          <p:cNvGrpSpPr/>
          <p:nvPr/>
        </p:nvGrpSpPr>
        <p:grpSpPr>
          <a:xfrm>
            <a:off x="4660920" y="5346720"/>
            <a:ext cx="3797280" cy="3720960"/>
            <a:chOff x="4660920" y="5346720"/>
            <a:chExt cx="3797280" cy="3720960"/>
          </a:xfrm>
        </p:grpSpPr>
        <p:grpSp>
          <p:nvGrpSpPr>
            <p:cNvPr id="596" name="Group 4"/>
            <p:cNvGrpSpPr/>
            <p:nvPr/>
          </p:nvGrpSpPr>
          <p:grpSpPr>
            <a:xfrm>
              <a:off x="4660920" y="5346720"/>
              <a:ext cx="3797280" cy="3720960"/>
              <a:chOff x="4660920" y="5346720"/>
              <a:chExt cx="3797280" cy="3720960"/>
            </a:xfrm>
          </p:grpSpPr>
          <p:sp>
            <p:nvSpPr>
              <p:cNvPr id="597" name="Oval 1"/>
              <p:cNvSpPr/>
              <p:nvPr/>
            </p:nvSpPr>
            <p:spPr>
              <a:xfrm>
                <a:off x="4672080" y="5346720"/>
                <a:ext cx="3786120" cy="3720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c4bf"/>
                  </a:gs>
                </a:gsLst>
                <a:lin ang="348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98" name="Freeform 2"/>
              <p:cNvSpPr/>
              <p:nvPr/>
            </p:nvSpPr>
            <p:spPr>
              <a:xfrm>
                <a:off x="4660920" y="7250040"/>
                <a:ext cx="3770280" cy="519120"/>
              </a:xfrm>
              <a:custGeom>
                <a:avLst/>
                <a:gdLst/>
                <a:ahLst/>
                <a:rect l="l" t="t" r="r" b="b"/>
                <a:pathLst>
                  <a:path w="21600" h="10007">
                    <a:moveTo>
                      <a:pt x="0" y="0"/>
                    </a:moveTo>
                    <a:cubicBezTo>
                      <a:pt x="0" y="0"/>
                      <a:pt x="8340" y="21600"/>
                      <a:pt x="21600" y="1332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99" name="Freeform 3"/>
              <p:cNvSpPr/>
              <p:nvPr/>
            </p:nvSpPr>
            <p:spPr>
              <a:xfrm>
                <a:off x="4676760" y="6662880"/>
                <a:ext cx="3780000" cy="637920"/>
              </a:xfrm>
              <a:custGeom>
                <a:avLst/>
                <a:gdLst/>
                <a:ahLst/>
                <a:rect l="l" t="t" r="r" b="b"/>
                <a:pathLst>
                  <a:path w="21600" h="9952">
                    <a:moveTo>
                      <a:pt x="0" y="8641"/>
                    </a:moveTo>
                    <a:cubicBezTo>
                      <a:pt x="0" y="8641"/>
                      <a:pt x="11024" y="-11648"/>
                      <a:pt x="21600" y="9952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00" name="Freeform 5"/>
            <p:cNvSpPr/>
            <p:nvPr/>
          </p:nvSpPr>
          <p:spPr>
            <a:xfrm>
              <a:off x="5467320" y="6012000"/>
              <a:ext cx="1925640" cy="485640"/>
            </a:xfrm>
            <a:custGeom>
              <a:avLst/>
              <a:gdLst/>
              <a:ahLst/>
              <a:rect l="l" t="t" r="r" b="b"/>
              <a:pathLst>
                <a:path w="21600" h="13324">
                  <a:moveTo>
                    <a:pt x="0" y="13324"/>
                  </a:moveTo>
                  <a:cubicBezTo>
                    <a:pt x="0" y="13324"/>
                    <a:pt x="8886" y="-8276"/>
                    <a:pt x="21600" y="3528"/>
                  </a:cubicBezTo>
                </a:path>
              </a:pathLst>
            </a:custGeom>
            <a:noFill/>
            <a:ln w="25560">
              <a:solidFill>
                <a:srgbClr val="bb120b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260080" y="-152640"/>
            <a:ext cx="847116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Gill Sans"/>
                <a:ea typeface="굴림"/>
              </a:rPr>
              <a:t>A novel framework for diffeomorphic paths (cont’)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02" name="Picture 8" descr=""/>
          <p:cNvPicPr/>
          <p:nvPr/>
        </p:nvPicPr>
        <p:blipFill>
          <a:blip r:embed="rId1"/>
          <a:stretch/>
        </p:blipFill>
        <p:spPr>
          <a:xfrm>
            <a:off x="6197760" y="6058080"/>
            <a:ext cx="576000" cy="3682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9" descr=""/>
          <p:cNvPicPr/>
          <p:nvPr/>
        </p:nvPicPr>
        <p:blipFill>
          <a:blip r:embed="rId2"/>
          <a:stretch/>
        </p:blipFill>
        <p:spPr>
          <a:xfrm>
            <a:off x="892080" y="2462040"/>
            <a:ext cx="3264120" cy="31417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0" descr=""/>
          <p:cNvPicPr/>
          <p:nvPr/>
        </p:nvPicPr>
        <p:blipFill>
          <a:blip r:embed="rId3"/>
          <a:stretch/>
        </p:blipFill>
        <p:spPr>
          <a:xfrm>
            <a:off x="8877240" y="2400480"/>
            <a:ext cx="2844720" cy="2885760"/>
          </a:xfrm>
          <a:prstGeom prst="rect">
            <a:avLst/>
          </a:prstGeom>
          <a:ln w="0">
            <a:noFill/>
          </a:ln>
        </p:spPr>
      </p:pic>
      <p:sp>
        <p:nvSpPr>
          <p:cNvPr id="605" name="Freeform 11"/>
          <p:cNvSpPr/>
          <p:nvPr/>
        </p:nvSpPr>
        <p:spPr>
          <a:xfrm>
            <a:off x="4152960" y="3693960"/>
            <a:ext cx="4656240" cy="451080"/>
          </a:xfrm>
          <a:custGeom>
            <a:avLst/>
            <a:gdLst/>
            <a:ahLst/>
            <a:rect l="l" t="t" r="r" b="b"/>
            <a:pathLst>
              <a:path w="21600" h="9635">
                <a:moveTo>
                  <a:pt x="0" y="9502"/>
                </a:moveTo>
                <a:cubicBezTo>
                  <a:pt x="0" y="9502"/>
                  <a:pt x="11322" y="-11965"/>
                  <a:pt x="21600" y="9635"/>
                </a:cubicBezTo>
              </a:path>
            </a:pathLst>
          </a:custGeom>
          <a:noFill/>
          <a:ln w="38160">
            <a:solidFill>
              <a:srgbClr val="790fb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06" name="Picture 12" descr=""/>
          <p:cNvPicPr/>
          <p:nvPr/>
        </p:nvPicPr>
        <p:blipFill>
          <a:blip r:embed="rId4"/>
          <a:stretch/>
        </p:blipFill>
        <p:spPr>
          <a:xfrm>
            <a:off x="1778040" y="5308560"/>
            <a:ext cx="1503360" cy="3808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3" descr=""/>
          <p:cNvPicPr/>
          <p:nvPr/>
        </p:nvPicPr>
        <p:blipFill>
          <a:blip r:embed="rId5"/>
          <a:stretch/>
        </p:blipFill>
        <p:spPr>
          <a:xfrm>
            <a:off x="9360000" y="5305320"/>
            <a:ext cx="1473120" cy="3841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4" descr=""/>
          <p:cNvPicPr/>
          <p:nvPr/>
        </p:nvPicPr>
        <p:blipFill>
          <a:blip r:embed="rId6"/>
          <a:stretch/>
        </p:blipFill>
        <p:spPr>
          <a:xfrm>
            <a:off x="6121440" y="3060720"/>
            <a:ext cx="736560" cy="469800"/>
          </a:xfrm>
          <a:prstGeom prst="rect">
            <a:avLst/>
          </a:prstGeom>
          <a:ln w="0">
            <a:noFill/>
          </a:ln>
        </p:spPr>
      </p:pic>
      <p:sp>
        <p:nvSpPr>
          <p:cNvPr id="609" name="Freeform 15"/>
          <p:cNvSpPr/>
          <p:nvPr/>
        </p:nvSpPr>
        <p:spPr>
          <a:xfrm>
            <a:off x="2819520" y="5829480"/>
            <a:ext cx="2590560" cy="761760"/>
          </a:xfrm>
          <a:custGeom>
            <a:avLst/>
            <a:gdLst/>
            <a:ahLst/>
            <a:rect l="l" t="t" r="r" b="b"/>
            <a:pathLst>
              <a:path w="21600" h="21347">
                <a:moveTo>
                  <a:pt x="0" y="0"/>
                </a:moveTo>
                <a:cubicBezTo>
                  <a:pt x="0" y="0"/>
                  <a:pt x="2707" y="21600"/>
                  <a:pt x="6967" y="21345"/>
                </a:cubicBezTo>
                <a:cubicBezTo>
                  <a:pt x="10476" y="21134"/>
                  <a:pt x="13072" y="9741"/>
                  <a:pt x="14268" y="8866"/>
                </a:cubicBezTo>
                <a:cubicBezTo>
                  <a:pt x="19071" y="5357"/>
                  <a:pt x="21600" y="19374"/>
                  <a:pt x="21600" y="19374"/>
                </a:cubicBezTo>
              </a:path>
            </a:pathLst>
          </a:custGeom>
          <a:noFill/>
          <a:ln w="38160">
            <a:solidFill>
              <a:srgbClr val="b2721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Freeform 16"/>
          <p:cNvSpPr/>
          <p:nvPr/>
        </p:nvSpPr>
        <p:spPr>
          <a:xfrm>
            <a:off x="7429680" y="5727600"/>
            <a:ext cx="2654280" cy="571680"/>
          </a:xfrm>
          <a:custGeom>
            <a:avLst/>
            <a:gdLst/>
            <a:ahLst/>
            <a:rect l="l" t="t" r="r" b="b"/>
            <a:pathLst>
              <a:path w="21600" h="18483">
                <a:moveTo>
                  <a:pt x="21600" y="0"/>
                </a:moveTo>
                <a:cubicBezTo>
                  <a:pt x="21600" y="0"/>
                  <a:pt x="16766" y="21507"/>
                  <a:pt x="13344" y="18122"/>
                </a:cubicBezTo>
                <a:cubicBezTo>
                  <a:pt x="9493" y="14313"/>
                  <a:pt x="11243" y="1613"/>
                  <a:pt x="6432" y="549"/>
                </a:cubicBezTo>
                <a:cubicBezTo>
                  <a:pt x="3526" y="-93"/>
                  <a:pt x="0" y="12905"/>
                  <a:pt x="0" y="12905"/>
                </a:cubicBezTo>
              </a:path>
            </a:pathLst>
          </a:custGeom>
          <a:noFill/>
          <a:ln w="38160">
            <a:solidFill>
              <a:srgbClr val="b2721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11" name="Picture 17" descr=""/>
          <p:cNvPicPr/>
          <p:nvPr/>
        </p:nvPicPr>
        <p:blipFill>
          <a:blip r:embed="rId7"/>
          <a:stretch/>
        </p:blipFill>
        <p:spPr>
          <a:xfrm>
            <a:off x="7112160" y="6242040"/>
            <a:ext cx="669600" cy="3366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18" descr=""/>
          <p:cNvPicPr/>
          <p:nvPr/>
        </p:nvPicPr>
        <p:blipFill>
          <a:blip r:embed="rId8"/>
          <a:stretch/>
        </p:blipFill>
        <p:spPr>
          <a:xfrm>
            <a:off x="5135400" y="6540480"/>
            <a:ext cx="557280" cy="325440"/>
          </a:xfrm>
          <a:prstGeom prst="rect">
            <a:avLst/>
          </a:prstGeom>
          <a:ln w="0">
            <a:noFill/>
          </a:ln>
        </p:spPr>
      </p:pic>
      <p:sp>
        <p:nvSpPr>
          <p:cNvPr id="613" name="Freeform 19"/>
          <p:cNvSpPr/>
          <p:nvPr/>
        </p:nvSpPr>
        <p:spPr>
          <a:xfrm>
            <a:off x="5538960" y="3884760"/>
            <a:ext cx="784080" cy="2082600"/>
          </a:xfrm>
          <a:custGeom>
            <a:avLst/>
            <a:gdLst/>
            <a:ahLst/>
            <a:rect l="l" t="t" r="r" b="b"/>
            <a:pathLst>
              <a:path w="15490" h="21600">
                <a:moveTo>
                  <a:pt x="15490" y="21600"/>
                </a:moveTo>
                <a:cubicBezTo>
                  <a:pt x="15490" y="21600"/>
                  <a:pt x="-6110" y="16416"/>
                  <a:pt x="1704" y="0"/>
                </a:cubicBezTo>
              </a:path>
            </a:pathLst>
          </a:custGeom>
          <a:noFill/>
          <a:ln w="38160">
            <a:solidFill>
              <a:srgbClr val="2021e4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Line 20"/>
          <p:cNvSpPr/>
          <p:nvPr/>
        </p:nvSpPr>
        <p:spPr>
          <a:xfrm flipH="1">
            <a:off x="9905760" y="8331120"/>
            <a:ext cx="1339560" cy="1800"/>
          </a:xfrm>
          <a:prstGeom prst="line">
            <a:avLst/>
          </a:prstGeom>
          <a:ln w="38160">
            <a:solidFill>
              <a:srgbClr val="2021e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Line 21"/>
          <p:cNvSpPr/>
          <p:nvPr/>
        </p:nvSpPr>
        <p:spPr>
          <a:xfrm flipH="1">
            <a:off x="9905760" y="8737560"/>
            <a:ext cx="1339560" cy="1800"/>
          </a:xfrm>
          <a:prstGeom prst="line">
            <a:avLst/>
          </a:prstGeom>
          <a:ln w="38160">
            <a:solidFill>
              <a:srgbClr val="790fb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Line 22"/>
          <p:cNvSpPr/>
          <p:nvPr/>
        </p:nvSpPr>
        <p:spPr>
          <a:xfrm flipH="1">
            <a:off x="1955880" y="8305920"/>
            <a:ext cx="1339920" cy="1440"/>
          </a:xfrm>
          <a:prstGeom prst="line">
            <a:avLst/>
          </a:prstGeom>
          <a:ln w="38160">
            <a:solidFill>
              <a:srgbClr val="bb120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Line 23"/>
          <p:cNvSpPr/>
          <p:nvPr/>
        </p:nvSpPr>
        <p:spPr>
          <a:xfrm flipH="1">
            <a:off x="1968480" y="8737560"/>
            <a:ext cx="1339920" cy="1800"/>
          </a:xfrm>
          <a:prstGeom prst="line">
            <a:avLst/>
          </a:prstGeom>
          <a:ln w="38160">
            <a:solidFill>
              <a:srgbClr val="b2721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Rectangle 24"/>
          <p:cNvSpPr/>
          <p:nvPr/>
        </p:nvSpPr>
        <p:spPr>
          <a:xfrm>
            <a:off x="1790280" y="7471440"/>
            <a:ext cx="1699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굴림"/>
              </a:rPr>
              <a:t>Step 1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Rectangle 25"/>
          <p:cNvSpPr/>
          <p:nvPr/>
        </p:nvSpPr>
        <p:spPr>
          <a:xfrm>
            <a:off x="9727560" y="7471440"/>
            <a:ext cx="1699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굴림"/>
              </a:rPr>
              <a:t>Step 2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Rectangle 26"/>
          <p:cNvSpPr/>
          <p:nvPr/>
        </p:nvSpPr>
        <p:spPr>
          <a:xfrm>
            <a:off x="1054440" y="1799280"/>
            <a:ext cx="497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  <a:ea typeface="굴림"/>
              </a:rPr>
              <a:t>Diagrammatic view : 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21" name="Picture 27" descr=""/>
          <p:cNvPicPr/>
          <p:nvPr/>
        </p:nvPicPr>
        <p:blipFill>
          <a:blip r:embed="rId9"/>
          <a:stretch/>
        </p:blipFill>
        <p:spPr>
          <a:xfrm>
            <a:off x="5905440" y="3971880"/>
            <a:ext cx="12067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260080" y="101160"/>
            <a:ext cx="847116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Gill Sans"/>
                <a:ea typeface="굴림"/>
              </a:rPr>
              <a:t>A novel framework for diffeomorphic paths (cont’)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269720" y="224748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굴림"/>
              </a:rPr>
              <a:t>Numeric solver 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굴림"/>
              </a:rPr>
              <a:t>The augmented Lagrangian method with penalties is adopted.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굴림"/>
              </a:rPr>
              <a:t>Details are provided in the section 3 of the paper number 1342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69720" y="114480"/>
            <a:ext cx="10464840" cy="143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ill Sans"/>
                <a:ea typeface="굴림"/>
              </a:rPr>
              <a:t>Experiment</a:t>
            </a:r>
            <a:endParaRPr b="0" lang="en-US" sz="6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99920" y="1549080"/>
            <a:ext cx="11404440" cy="8204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  <a:ea typeface="굴림"/>
              </a:rPr>
              <a:t>Purpose : to show why the diffeomorphic paths evaluated with our framework are special.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lvl="1" marL="1293120" indent="-554040">
              <a:spcBef>
                <a:spcPts val="1500"/>
              </a:spcBef>
              <a:buClr>
                <a:srgbClr val="bb120b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bb120b"/>
                </a:solidFill>
                <a:latin typeface="Gill Sans"/>
                <a:ea typeface="굴림"/>
              </a:rPr>
              <a:t>Diffeomorphisms in the path yield locally shape-preserving deformations.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lvl="1" marL="1293120" indent="-554040">
              <a:spcBef>
                <a:spcPts val="1500"/>
              </a:spcBef>
              <a:buClr>
                <a:srgbClr val="bb120b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bb120b"/>
                </a:solidFill>
                <a:latin typeface="Gill Sans"/>
                <a:ea typeface="굴림"/>
              </a:rPr>
              <a:t>Features in a source image are preserved along its diffeomorphic path.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marL="861840" indent="-554040">
              <a:spcBef>
                <a:spcPts val="15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  <a:ea typeface="굴림"/>
              </a:rPr>
              <a:t>Registration is </a:t>
            </a:r>
            <a:r>
              <a:rPr b="0" lang="en-US" sz="3700" spc="-1" strike="noStrike">
                <a:solidFill>
                  <a:srgbClr val="ff2076"/>
                </a:solidFill>
                <a:latin typeface="Gill Sans"/>
                <a:ea typeface="굴림"/>
              </a:rPr>
              <a:t>NOT</a:t>
            </a:r>
            <a:r>
              <a:rPr b="0" lang="en-US" sz="3700" spc="-1" strike="noStrike">
                <a:solidFill>
                  <a:srgbClr val="000000"/>
                </a:solidFill>
                <a:latin typeface="Gill Sans"/>
                <a:ea typeface="굴림"/>
              </a:rPr>
              <a:t> a part of our framework.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marL="861840" indent="-554040">
              <a:spcBef>
                <a:spcPts val="15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  <a:ea typeface="굴림"/>
              </a:rPr>
              <a:t>The two end points of diffeomorphisms, (    and    ) are computed via a registration step as preprocessing.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marL="861840" indent="-554040">
              <a:spcBef>
                <a:spcPts val="15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  <a:ea typeface="굴림"/>
              </a:rPr>
              <a:t>Our results are compared with the ground truths and results from the popular LDDMM </a:t>
            </a:r>
            <a:r>
              <a:rPr b="0" lang="en-US" sz="2100" spc="-1" strike="noStrike">
                <a:solidFill>
                  <a:srgbClr val="000000"/>
                </a:solidFill>
                <a:latin typeface="Gill Sans"/>
                <a:ea typeface="굴림"/>
              </a:rPr>
              <a:t>[1]   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굴림"/>
              </a:rPr>
              <a:t>method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26" name="Picture 3" descr=""/>
          <p:cNvPicPr/>
          <p:nvPr/>
        </p:nvPicPr>
        <p:blipFill>
          <a:blip r:embed="rId1"/>
          <a:stretch/>
        </p:blipFill>
        <p:spPr>
          <a:xfrm>
            <a:off x="10298160" y="6491160"/>
            <a:ext cx="380880" cy="3304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4" descr=""/>
          <p:cNvPicPr/>
          <p:nvPr/>
        </p:nvPicPr>
        <p:blipFill>
          <a:blip r:embed="rId2"/>
          <a:stretch/>
        </p:blipFill>
        <p:spPr>
          <a:xfrm>
            <a:off x="11674440" y="6431040"/>
            <a:ext cx="228600" cy="31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173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ill Sans"/>
                <a:ea typeface="굴림"/>
              </a:rPr>
              <a:t>Experiment 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굴림"/>
              </a:rPr>
              <a:t>(cont’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77760" y="1486080"/>
            <a:ext cx="10731600" cy="773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853200" indent="-5482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굴림"/>
              </a:rPr>
              <a:t>Data preparation 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79800" indent="-548280">
              <a:spcBef>
                <a:spcPts val="15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굴림"/>
              </a:rPr>
              <a:t>A source and target pair of images are given :   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79800" indent="0"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79800" indent="-548280">
              <a:spcBef>
                <a:spcPts val="15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굴림"/>
              </a:rPr>
              <a:t>A diffeomorphic map which deforms the source image to the target image is evaluated 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79800" indent="0"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79800" indent="-548280">
              <a:spcBef>
                <a:spcPts val="15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굴림"/>
              </a:rPr>
              <a:t>The boundary values are set as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30" name="Picture 3" descr=""/>
          <p:cNvPicPr/>
          <p:nvPr/>
        </p:nvPicPr>
        <p:blipFill>
          <a:blip r:embed="rId1"/>
          <a:stretch/>
        </p:blipFill>
        <p:spPr>
          <a:xfrm>
            <a:off x="7442280" y="8405640"/>
            <a:ext cx="2628720" cy="48276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4" descr=""/>
          <p:cNvPicPr/>
          <p:nvPr/>
        </p:nvPicPr>
        <p:blipFill>
          <a:blip r:embed="rId2"/>
          <a:stretch/>
        </p:blipFill>
        <p:spPr>
          <a:xfrm>
            <a:off x="3492360" y="8405640"/>
            <a:ext cx="2616480" cy="470160"/>
          </a:xfrm>
          <a:prstGeom prst="rect">
            <a:avLst/>
          </a:prstGeom>
          <a:ln w="0">
            <a:noFill/>
          </a:ln>
        </p:spPr>
      </p:pic>
      <p:grpSp>
        <p:nvGrpSpPr>
          <p:cNvPr id="632" name="Group 8"/>
          <p:cNvGrpSpPr/>
          <p:nvPr/>
        </p:nvGrpSpPr>
        <p:grpSpPr>
          <a:xfrm>
            <a:off x="4183200" y="3648600"/>
            <a:ext cx="3728880" cy="651960"/>
            <a:chOff x="4183200" y="3648600"/>
            <a:chExt cx="3728880" cy="651960"/>
          </a:xfrm>
        </p:grpSpPr>
        <p:pic>
          <p:nvPicPr>
            <p:cNvPr id="633" name="Picture 5" descr=""/>
            <p:cNvPicPr/>
            <p:nvPr/>
          </p:nvPicPr>
          <p:blipFill>
            <a:blip r:embed="rId3"/>
            <a:stretch/>
          </p:blipFill>
          <p:spPr>
            <a:xfrm>
              <a:off x="4183200" y="3868560"/>
              <a:ext cx="1257480" cy="3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Picture 6" descr=""/>
            <p:cNvPicPr/>
            <p:nvPr/>
          </p:nvPicPr>
          <p:blipFill>
            <a:blip r:embed="rId4"/>
            <a:stretch/>
          </p:blipFill>
          <p:spPr>
            <a:xfrm>
              <a:off x="6718320" y="3843360"/>
              <a:ext cx="11937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Rectangle 7"/>
            <p:cNvSpPr/>
            <p:nvPr/>
          </p:nvSpPr>
          <p:spPr>
            <a:xfrm>
              <a:off x="5621400" y="3648600"/>
              <a:ext cx="9561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Gill Sans"/>
                  <a:ea typeface="굴림"/>
                </a:rPr>
                <a:t>and</a:t>
              </a: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36" name="Rectangle 9"/>
          <p:cNvSpPr/>
          <p:nvPr/>
        </p:nvSpPr>
        <p:spPr>
          <a:xfrm>
            <a:off x="6304680" y="8277840"/>
            <a:ext cx="956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굴림"/>
              </a:rPr>
              <a:t>an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37" name="Picture 10" descr=""/>
          <p:cNvPicPr/>
          <p:nvPr/>
        </p:nvPicPr>
        <p:blipFill>
          <a:blip r:embed="rId5"/>
          <a:stretch/>
        </p:blipFill>
        <p:spPr>
          <a:xfrm>
            <a:off x="4800600" y="6796080"/>
            <a:ext cx="38098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69720" y="101160"/>
            <a:ext cx="10464840" cy="1638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ill Sans"/>
                <a:ea typeface="굴림"/>
              </a:rPr>
              <a:t>Experiment 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굴림"/>
              </a:rPr>
              <a:t>(cont’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161720" y="1708200"/>
            <a:ext cx="11101320" cy="801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50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"/>
                <a:ea typeface="굴림"/>
              </a:rPr>
              <a:t>Main test :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"/>
                <a:ea typeface="굴림"/>
              </a:rPr>
              <a:t>     </a:t>
            </a:r>
            <a:r>
              <a:rPr b="0" lang="en-US" sz="3300" spc="-1" strike="noStrike">
                <a:solidFill>
                  <a:srgbClr val="000000"/>
                </a:solidFill>
                <a:latin typeface="Gill Sans"/>
                <a:ea typeface="굴림"/>
              </a:rPr>
              <a:t>is evaluated with the novel framework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50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"/>
                <a:ea typeface="굴림"/>
              </a:rPr>
              <a:t>Results are validated by comparing                   with                   from       of the ground truth and LDDMM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  <a:p>
            <a:pPr lvl="2" marL="1778040" indent="-571680">
              <a:lnSpc>
                <a:spcPct val="150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"/>
                <a:ea typeface="굴림"/>
              </a:rPr>
              <a:t>pSNR scores are computed w.r.t the ground truth.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  <a:p>
            <a:pPr lvl="2" marL="1778040" indent="-571680">
              <a:lnSpc>
                <a:spcPct val="150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"/>
                <a:ea typeface="굴림"/>
              </a:rPr>
              <a:t>Visual comparisons are provided. 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40" name="Picture 3" descr=""/>
          <p:cNvPicPr/>
          <p:nvPr/>
        </p:nvPicPr>
        <p:blipFill>
          <a:blip r:embed="rId1"/>
          <a:stretch/>
        </p:blipFill>
        <p:spPr>
          <a:xfrm>
            <a:off x="2425680" y="2612880"/>
            <a:ext cx="660600" cy="42084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4" descr=""/>
          <p:cNvPicPr/>
          <p:nvPr/>
        </p:nvPicPr>
        <p:blipFill>
          <a:blip r:embed="rId2"/>
          <a:stretch/>
        </p:blipFill>
        <p:spPr>
          <a:xfrm>
            <a:off x="3541680" y="4089240"/>
            <a:ext cx="539640" cy="355680"/>
          </a:xfrm>
          <a:prstGeom prst="rect">
            <a:avLst/>
          </a:prstGeom>
          <a:ln w="0">
            <a:noFill/>
          </a:ln>
        </p:spPr>
      </p:pic>
      <p:grpSp>
        <p:nvGrpSpPr>
          <p:cNvPr id="642" name="Group 18"/>
          <p:cNvGrpSpPr/>
          <p:nvPr/>
        </p:nvGrpSpPr>
        <p:grpSpPr>
          <a:xfrm>
            <a:off x="2921040" y="6235560"/>
            <a:ext cx="7072200" cy="1335240"/>
            <a:chOff x="2921040" y="6235560"/>
            <a:chExt cx="7072200" cy="1335240"/>
          </a:xfrm>
        </p:grpSpPr>
        <p:grpSp>
          <p:nvGrpSpPr>
            <p:cNvPr id="643" name="Group 7"/>
            <p:cNvGrpSpPr/>
            <p:nvPr/>
          </p:nvGrpSpPr>
          <p:grpSpPr>
            <a:xfrm>
              <a:off x="2921040" y="6238800"/>
              <a:ext cx="1076400" cy="1332000"/>
              <a:chOff x="2921040" y="6238800"/>
              <a:chExt cx="1076400" cy="1332000"/>
            </a:xfrm>
          </p:grpSpPr>
          <p:pic>
            <p:nvPicPr>
              <p:cNvPr id="64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3106800" y="6718320"/>
                <a:ext cx="704880" cy="36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5" name="AutoShape 6"/>
              <p:cNvSpPr/>
              <p:nvPr/>
            </p:nvSpPr>
            <p:spPr>
              <a:xfrm>
                <a:off x="2921040" y="6238800"/>
                <a:ext cx="1076400" cy="1332000"/>
              </a:xfrm>
              <a:custGeom>
                <a:avLst/>
                <a:gdLst>
                  <a:gd name="textAreaLeft" fmla="*/ 55440 w 1076400"/>
                  <a:gd name="textAreaRight" fmla="*/ 1020960 w 1076400"/>
                  <a:gd name="textAreaTop" fmla="*/ 55440 h 1332000"/>
                  <a:gd name="textAreaBottom" fmla="*/ 1276560 h 1332000"/>
                </a:gdLst>
                <a:ahLst/>
                <a:rect l="textAreaLeft" t="textAreaTop" r="textAreaRight" b="textAreaBottom"/>
                <a:pathLst>
                  <a:path w="21600" h="26727">
                    <a:moveTo>
                      <a:pt x="3817" y="0"/>
                    </a:moveTo>
                    <a:arcTo wR="3817" hR="3817" stAng="16200000" swAng="-5400000"/>
                    <a:lnTo>
                      <a:pt x="0" y="22910"/>
                    </a:lnTo>
                    <a:arcTo wR="3817" hR="3817" stAng="10800000" swAng="-5400000"/>
                    <a:lnTo>
                      <a:pt x="17783" y="26727"/>
                    </a:lnTo>
                    <a:arcTo wR="3817" hR="3817" stAng="5400000" swAng="-5400000"/>
                    <a:lnTo>
                      <a:pt x="21600" y="3817"/>
                    </a:lnTo>
                    <a:arcTo wR="3817" hR="3817" stAng="0" swAng="-5400000"/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46" name="Group 10"/>
            <p:cNvGrpSpPr/>
            <p:nvPr/>
          </p:nvGrpSpPr>
          <p:grpSpPr>
            <a:xfrm>
              <a:off x="4316400" y="6238800"/>
              <a:ext cx="1077840" cy="1332000"/>
              <a:chOff x="4316400" y="6238800"/>
              <a:chExt cx="1077840" cy="1332000"/>
            </a:xfrm>
          </p:grpSpPr>
          <p:sp>
            <p:nvSpPr>
              <p:cNvPr id="647" name="AutoShape 8"/>
              <p:cNvSpPr/>
              <p:nvPr/>
            </p:nvSpPr>
            <p:spPr>
              <a:xfrm>
                <a:off x="4316400" y="6238800"/>
                <a:ext cx="1077840" cy="1332000"/>
              </a:xfrm>
              <a:custGeom>
                <a:avLst/>
                <a:gdLst>
                  <a:gd name="textAreaLeft" fmla="*/ 55800 w 1077840"/>
                  <a:gd name="textAreaRight" fmla="*/ 1022040 w 1077840"/>
                  <a:gd name="textAreaTop" fmla="*/ 55800 h 1332000"/>
                  <a:gd name="textAreaBottom" fmla="*/ 1276200 h 1332000"/>
                </a:gdLst>
                <a:ahLst/>
                <a:rect l="textAreaLeft" t="textAreaTop" r="textAreaRight" b="textAreaBottom"/>
                <a:pathLst>
                  <a:path w="21600" h="26692">
                    <a:moveTo>
                      <a:pt x="3817" y="0"/>
                    </a:moveTo>
                    <a:arcTo wR="3817" hR="3817" stAng="16200000" swAng="-5400000"/>
                    <a:lnTo>
                      <a:pt x="0" y="22875"/>
                    </a:lnTo>
                    <a:arcTo wR="3817" hR="3817" stAng="10800000" swAng="-5400000"/>
                    <a:lnTo>
                      <a:pt x="17783" y="26692"/>
                    </a:lnTo>
                    <a:arcTo wR="3817" hR="3817" stAng="5400000" swAng="-5400000"/>
                    <a:lnTo>
                      <a:pt x="21600" y="3817"/>
                    </a:lnTo>
                    <a:arcTo wR="3817" hR="3817" stAng="0" swAng="-5400000"/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pic>
            <p:nvPicPr>
              <p:cNvPr id="648" name="Pictur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4502160" y="6718320"/>
                <a:ext cx="704880" cy="361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9" name="Group 13"/>
            <p:cNvGrpSpPr/>
            <p:nvPr/>
          </p:nvGrpSpPr>
          <p:grpSpPr>
            <a:xfrm>
              <a:off x="8915400" y="6235560"/>
              <a:ext cx="1077840" cy="1332000"/>
              <a:chOff x="8915400" y="6235560"/>
              <a:chExt cx="1077840" cy="1332000"/>
            </a:xfrm>
          </p:grpSpPr>
          <p:sp>
            <p:nvSpPr>
              <p:cNvPr id="650" name="AutoShape 11"/>
              <p:cNvSpPr/>
              <p:nvPr/>
            </p:nvSpPr>
            <p:spPr>
              <a:xfrm>
                <a:off x="8915400" y="6235560"/>
                <a:ext cx="1077840" cy="1332000"/>
              </a:xfrm>
              <a:custGeom>
                <a:avLst/>
                <a:gdLst>
                  <a:gd name="textAreaLeft" fmla="*/ 55800 w 1077840"/>
                  <a:gd name="textAreaRight" fmla="*/ 1022040 w 1077840"/>
                  <a:gd name="textAreaTop" fmla="*/ 55800 h 1332000"/>
                  <a:gd name="textAreaBottom" fmla="*/ 1276200 h 1332000"/>
                </a:gdLst>
                <a:ahLst/>
                <a:rect l="textAreaLeft" t="textAreaTop" r="textAreaRight" b="textAreaBottom"/>
                <a:pathLst>
                  <a:path w="21600" h="26692">
                    <a:moveTo>
                      <a:pt x="3817" y="0"/>
                    </a:moveTo>
                    <a:arcTo wR="3817" hR="3817" stAng="16200000" swAng="-5400000"/>
                    <a:lnTo>
                      <a:pt x="0" y="22875"/>
                    </a:lnTo>
                    <a:arcTo wR="3817" hR="3817" stAng="10800000" swAng="-5400000"/>
                    <a:lnTo>
                      <a:pt x="17783" y="26692"/>
                    </a:lnTo>
                    <a:arcTo wR="3817" hR="3817" stAng="5400000" swAng="-5400000"/>
                    <a:lnTo>
                      <a:pt x="21600" y="3817"/>
                    </a:lnTo>
                    <a:arcTo wR="3817" hR="3817" stAng="0" swAng="-5400000"/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pic>
            <p:nvPicPr>
              <p:cNvPr id="651" name="Picture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0640" y="6675120"/>
                <a:ext cx="725400" cy="373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52" name="Group 17"/>
            <p:cNvGrpSpPr/>
            <p:nvPr/>
          </p:nvGrpSpPr>
          <p:grpSpPr>
            <a:xfrm>
              <a:off x="6373440" y="6819840"/>
              <a:ext cx="1092240" cy="164880"/>
              <a:chOff x="6373440" y="6819840"/>
              <a:chExt cx="1092240" cy="164880"/>
            </a:xfrm>
          </p:grpSpPr>
          <p:sp>
            <p:nvSpPr>
              <p:cNvPr id="653" name="Oval 14"/>
              <p:cNvSpPr/>
              <p:nvPr/>
            </p:nvSpPr>
            <p:spPr>
              <a:xfrm flipH="1">
                <a:off x="6373080" y="6819840"/>
                <a:ext cx="152280" cy="164880"/>
              </a:xfrm>
              <a:prstGeom prst="ellipse">
                <a:avLst/>
              </a:prstGeom>
              <a:solidFill>
                <a:srgbClr val="010101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54" name="Oval 15"/>
              <p:cNvSpPr/>
              <p:nvPr/>
            </p:nvSpPr>
            <p:spPr>
              <a:xfrm flipH="1">
                <a:off x="6843600" y="6819840"/>
                <a:ext cx="152640" cy="164880"/>
              </a:xfrm>
              <a:prstGeom prst="ellipse">
                <a:avLst/>
              </a:prstGeom>
              <a:solidFill>
                <a:srgbClr val="010101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55" name="Oval 16"/>
              <p:cNvSpPr/>
              <p:nvPr/>
            </p:nvSpPr>
            <p:spPr>
              <a:xfrm flipH="1">
                <a:off x="7313040" y="6819840"/>
                <a:ext cx="152280" cy="164880"/>
              </a:xfrm>
              <a:prstGeom prst="ellipse">
                <a:avLst/>
              </a:prstGeom>
              <a:solidFill>
                <a:srgbClr val="010101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pic>
        <p:nvPicPr>
          <p:cNvPr id="656" name="Picture 19" descr=""/>
          <p:cNvPicPr/>
          <p:nvPr/>
        </p:nvPicPr>
        <p:blipFill>
          <a:blip r:embed="rId6"/>
          <a:stretch/>
        </p:blipFill>
        <p:spPr>
          <a:xfrm>
            <a:off x="9317160" y="3328920"/>
            <a:ext cx="1739880" cy="330120"/>
          </a:xfrm>
          <a:prstGeom prst="rect">
            <a:avLst/>
          </a:prstGeom>
          <a:ln w="0">
            <a:noFill/>
          </a:ln>
        </p:spPr>
      </p:pic>
      <p:grpSp>
        <p:nvGrpSpPr>
          <p:cNvPr id="657" name="Group 33"/>
          <p:cNvGrpSpPr/>
          <p:nvPr/>
        </p:nvGrpSpPr>
        <p:grpSpPr>
          <a:xfrm>
            <a:off x="2916360" y="7975440"/>
            <a:ext cx="7071840" cy="1396800"/>
            <a:chOff x="2916360" y="7975440"/>
            <a:chExt cx="7071840" cy="1396800"/>
          </a:xfrm>
        </p:grpSpPr>
        <p:grpSp>
          <p:nvGrpSpPr>
            <p:cNvPr id="658" name="Group 23"/>
            <p:cNvGrpSpPr/>
            <p:nvPr/>
          </p:nvGrpSpPr>
          <p:grpSpPr>
            <a:xfrm>
              <a:off x="6373440" y="8621640"/>
              <a:ext cx="1092240" cy="164880"/>
              <a:chOff x="6373440" y="8621640"/>
              <a:chExt cx="1092240" cy="164880"/>
            </a:xfrm>
          </p:grpSpPr>
          <p:sp>
            <p:nvSpPr>
              <p:cNvPr id="659" name="Oval 20"/>
              <p:cNvSpPr/>
              <p:nvPr/>
            </p:nvSpPr>
            <p:spPr>
              <a:xfrm flipH="1">
                <a:off x="7313040" y="8621640"/>
                <a:ext cx="152280" cy="164880"/>
              </a:xfrm>
              <a:prstGeom prst="ellipse">
                <a:avLst/>
              </a:prstGeom>
              <a:solidFill>
                <a:srgbClr val="010101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60" name="Oval 21"/>
              <p:cNvSpPr/>
              <p:nvPr/>
            </p:nvSpPr>
            <p:spPr>
              <a:xfrm flipH="1">
                <a:off x="6843600" y="8621640"/>
                <a:ext cx="152640" cy="164880"/>
              </a:xfrm>
              <a:prstGeom prst="ellipse">
                <a:avLst/>
              </a:prstGeom>
              <a:solidFill>
                <a:srgbClr val="010101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61" name="Oval 22"/>
              <p:cNvSpPr/>
              <p:nvPr/>
            </p:nvSpPr>
            <p:spPr>
              <a:xfrm flipH="1">
                <a:off x="6373080" y="8621640"/>
                <a:ext cx="152280" cy="164880"/>
              </a:xfrm>
              <a:prstGeom prst="ellipse">
                <a:avLst/>
              </a:prstGeom>
              <a:solidFill>
                <a:srgbClr val="010101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62" name="Group 26"/>
            <p:cNvGrpSpPr/>
            <p:nvPr/>
          </p:nvGrpSpPr>
          <p:grpSpPr>
            <a:xfrm>
              <a:off x="2916360" y="7975440"/>
              <a:ext cx="1076400" cy="1332000"/>
              <a:chOff x="2916360" y="7975440"/>
              <a:chExt cx="1076400" cy="1332000"/>
            </a:xfrm>
          </p:grpSpPr>
          <p:sp>
            <p:nvSpPr>
              <p:cNvPr id="663" name="AutoShape 24"/>
              <p:cNvSpPr/>
              <p:nvPr/>
            </p:nvSpPr>
            <p:spPr>
              <a:xfrm>
                <a:off x="2916360" y="7975440"/>
                <a:ext cx="1076400" cy="1332000"/>
              </a:xfrm>
              <a:custGeom>
                <a:avLst/>
                <a:gdLst>
                  <a:gd name="textAreaLeft" fmla="*/ 55440 w 1076400"/>
                  <a:gd name="textAreaRight" fmla="*/ 1020960 w 1076400"/>
                  <a:gd name="textAreaTop" fmla="*/ 55440 h 1332000"/>
                  <a:gd name="textAreaBottom" fmla="*/ 1276560 h 1332000"/>
                </a:gdLst>
                <a:ahLst/>
                <a:rect l="textAreaLeft" t="textAreaTop" r="textAreaRight" b="textAreaBottom"/>
                <a:pathLst>
                  <a:path w="21600" h="26727">
                    <a:moveTo>
                      <a:pt x="3817" y="0"/>
                    </a:moveTo>
                    <a:arcTo wR="3817" hR="3817" stAng="16200000" swAng="-5400000"/>
                    <a:lnTo>
                      <a:pt x="0" y="22910"/>
                    </a:lnTo>
                    <a:arcTo wR="3817" hR="3817" stAng="10800000" swAng="-5400000"/>
                    <a:lnTo>
                      <a:pt x="17783" y="26727"/>
                    </a:lnTo>
                    <a:arcTo wR="3817" hR="3817" stAng="5400000" swAng="-5400000"/>
                    <a:lnTo>
                      <a:pt x="21600" y="3817"/>
                    </a:lnTo>
                    <a:arcTo wR="3817" hR="3817" stAng="0" swAng="-5400000"/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pic>
            <p:nvPicPr>
              <p:cNvPr id="664" name="Picture 25" descr=""/>
              <p:cNvPicPr/>
              <p:nvPr/>
            </p:nvPicPr>
            <p:blipFill>
              <a:blip r:embed="rId7"/>
              <a:stretch/>
            </p:blipFill>
            <p:spPr>
              <a:xfrm>
                <a:off x="2978280" y="8520120"/>
                <a:ext cx="961920" cy="253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5" name="Group 29"/>
            <p:cNvGrpSpPr/>
            <p:nvPr/>
          </p:nvGrpSpPr>
          <p:grpSpPr>
            <a:xfrm>
              <a:off x="4321440" y="7975440"/>
              <a:ext cx="1077840" cy="1332000"/>
              <a:chOff x="4321440" y="7975440"/>
              <a:chExt cx="1077840" cy="1332000"/>
            </a:xfrm>
          </p:grpSpPr>
          <p:sp>
            <p:nvSpPr>
              <p:cNvPr id="666" name="AutoShape 27"/>
              <p:cNvSpPr/>
              <p:nvPr/>
            </p:nvSpPr>
            <p:spPr>
              <a:xfrm>
                <a:off x="4321440" y="7975440"/>
                <a:ext cx="1077840" cy="1332000"/>
              </a:xfrm>
              <a:custGeom>
                <a:avLst/>
                <a:gdLst>
                  <a:gd name="textAreaLeft" fmla="*/ 55800 w 1077840"/>
                  <a:gd name="textAreaRight" fmla="*/ 1022040 w 1077840"/>
                  <a:gd name="textAreaTop" fmla="*/ 55800 h 1332000"/>
                  <a:gd name="textAreaBottom" fmla="*/ 1276200 h 1332000"/>
                </a:gdLst>
                <a:ahLst/>
                <a:rect l="textAreaLeft" t="textAreaTop" r="textAreaRight" b="textAreaBottom"/>
                <a:pathLst>
                  <a:path w="21600" h="26692">
                    <a:moveTo>
                      <a:pt x="3818" y="0"/>
                    </a:moveTo>
                    <a:arcTo wR="3818" hR="3818" stAng="16200000" swAng="-5400000"/>
                    <a:lnTo>
                      <a:pt x="0" y="22874"/>
                    </a:lnTo>
                    <a:arcTo wR="3818" hR="3818" stAng="10800000" swAng="-5400000"/>
                    <a:lnTo>
                      <a:pt x="17782" y="26692"/>
                    </a:lnTo>
                    <a:arcTo wR="3818" hR="3818" stAng="5400000" swAng="-5400000"/>
                    <a:lnTo>
                      <a:pt x="21600" y="3818"/>
                    </a:lnTo>
                    <a:arcTo wR="3818" hR="3818" stAng="0" swAng="-5400000"/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pic>
            <p:nvPicPr>
              <p:cNvPr id="667" name="Picture 28" descr=""/>
              <p:cNvPicPr/>
              <p:nvPr/>
            </p:nvPicPr>
            <p:blipFill>
              <a:blip r:embed="rId8"/>
              <a:stretch/>
            </p:blipFill>
            <p:spPr>
              <a:xfrm>
                <a:off x="4380120" y="8520120"/>
                <a:ext cx="961920" cy="253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8" name="Group 32"/>
            <p:cNvGrpSpPr/>
            <p:nvPr/>
          </p:nvGrpSpPr>
          <p:grpSpPr>
            <a:xfrm>
              <a:off x="8910720" y="8038800"/>
              <a:ext cx="1077480" cy="1333440"/>
              <a:chOff x="8910720" y="8038800"/>
              <a:chExt cx="1077480" cy="1333440"/>
            </a:xfrm>
          </p:grpSpPr>
          <p:sp>
            <p:nvSpPr>
              <p:cNvPr id="669" name="AutoShape 30"/>
              <p:cNvSpPr/>
              <p:nvPr/>
            </p:nvSpPr>
            <p:spPr>
              <a:xfrm>
                <a:off x="8910720" y="8038800"/>
                <a:ext cx="1077480" cy="1333440"/>
              </a:xfrm>
              <a:custGeom>
                <a:avLst/>
                <a:gdLst>
                  <a:gd name="textAreaLeft" fmla="*/ 55440 w 1077480"/>
                  <a:gd name="textAreaRight" fmla="*/ 1022040 w 1077480"/>
                  <a:gd name="textAreaTop" fmla="*/ 55440 h 1333440"/>
                  <a:gd name="textAreaBottom" fmla="*/ 1278000 h 1333440"/>
                </a:gdLst>
                <a:ahLst/>
                <a:rect l="textAreaLeft" t="textAreaTop" r="textAreaRight" b="textAreaBottom"/>
                <a:pathLst>
                  <a:path w="21600" h="26729">
                    <a:moveTo>
                      <a:pt x="3817" y="0"/>
                    </a:moveTo>
                    <a:arcTo wR="3817" hR="3817" stAng="16200000" swAng="-5400000"/>
                    <a:lnTo>
                      <a:pt x="0" y="22912"/>
                    </a:lnTo>
                    <a:arcTo wR="3817" hR="3817" stAng="10800000" swAng="-5400000"/>
                    <a:lnTo>
                      <a:pt x="17783" y="26729"/>
                    </a:lnTo>
                    <a:arcTo wR="3817" hR="3817" stAng="5400000" swAng="-5400000"/>
                    <a:lnTo>
                      <a:pt x="21600" y="3817"/>
                    </a:lnTo>
                    <a:arcTo wR="3817" hR="3817" stAng="0" swAng="-5400000"/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pic>
            <p:nvPicPr>
              <p:cNvPr id="670" name="Picture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8964720" y="8569440"/>
                <a:ext cx="996480" cy="267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671" name="Picture 34" descr=""/>
          <p:cNvPicPr/>
          <p:nvPr/>
        </p:nvPicPr>
        <p:blipFill>
          <a:blip r:embed="rId10"/>
          <a:stretch/>
        </p:blipFill>
        <p:spPr>
          <a:xfrm>
            <a:off x="271440" y="8153280"/>
            <a:ext cx="2274840" cy="2923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5" descr=""/>
          <p:cNvPicPr/>
          <p:nvPr/>
        </p:nvPicPr>
        <p:blipFill>
          <a:blip r:embed="rId11"/>
          <a:stretch/>
        </p:blipFill>
        <p:spPr>
          <a:xfrm>
            <a:off x="630360" y="8686800"/>
            <a:ext cx="1658880" cy="343080"/>
          </a:xfrm>
          <a:prstGeom prst="rect">
            <a:avLst/>
          </a:prstGeom>
          <a:ln w="0">
            <a:noFill/>
          </a:ln>
        </p:spPr>
      </p:pic>
      <p:sp>
        <p:nvSpPr>
          <p:cNvPr id="673" name="AutoShape 36"/>
          <p:cNvSpPr/>
          <p:nvPr/>
        </p:nvSpPr>
        <p:spPr>
          <a:xfrm>
            <a:off x="4152960" y="6108840"/>
            <a:ext cx="4610160" cy="1600200"/>
          </a:xfrm>
          <a:prstGeom prst="roundRect">
            <a:avLst>
              <a:gd name="adj" fmla="val 11903"/>
            </a:avLst>
          </a:prstGeom>
          <a:noFill/>
          <a:ln w="25560">
            <a:solidFill>
              <a:srgbClr val="2021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4" name="AutoShape 37"/>
          <p:cNvSpPr/>
          <p:nvPr/>
        </p:nvSpPr>
        <p:spPr>
          <a:xfrm>
            <a:off x="4191120" y="7873920"/>
            <a:ext cx="4610160" cy="1600200"/>
          </a:xfrm>
          <a:prstGeom prst="roundRect">
            <a:avLst>
              <a:gd name="adj" fmla="val 11903"/>
            </a:avLst>
          </a:prstGeom>
          <a:noFill/>
          <a:ln w="25560">
            <a:solidFill>
              <a:srgbClr val="bb12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75" name="Group 40"/>
          <p:cNvGrpSpPr/>
          <p:nvPr/>
        </p:nvGrpSpPr>
        <p:grpSpPr>
          <a:xfrm>
            <a:off x="10439280" y="6621480"/>
            <a:ext cx="2438280" cy="855720"/>
            <a:chOff x="10439280" y="6621480"/>
            <a:chExt cx="2438280" cy="855720"/>
          </a:xfrm>
        </p:grpSpPr>
        <p:sp>
          <p:nvSpPr>
            <p:cNvPr id="676" name="AutoShape 38"/>
            <p:cNvSpPr/>
            <p:nvPr/>
          </p:nvSpPr>
          <p:spPr>
            <a:xfrm>
              <a:off x="10531440" y="6621480"/>
              <a:ext cx="2249280" cy="855720"/>
            </a:xfrm>
            <a:prstGeom prst="roundRect">
              <a:avLst>
                <a:gd name="adj" fmla="val 22222"/>
              </a:avLst>
            </a:prstGeom>
            <a:noFill/>
            <a:ln w="25560">
              <a:solidFill>
                <a:srgbClr val="2021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7" name="Rectangle 39"/>
            <p:cNvSpPr/>
            <p:nvPr/>
          </p:nvSpPr>
          <p:spPr>
            <a:xfrm>
              <a:off x="10439280" y="6750000"/>
              <a:ext cx="243828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5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굴림"/>
                </a:rPr>
                <a:t>The ground truth of image sequenc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8" name="Group 43"/>
          <p:cNvGrpSpPr/>
          <p:nvPr/>
        </p:nvGrpSpPr>
        <p:grpSpPr>
          <a:xfrm>
            <a:off x="10547280" y="8278920"/>
            <a:ext cx="2197080" cy="813960"/>
            <a:chOff x="10547280" y="8278920"/>
            <a:chExt cx="2197080" cy="813960"/>
          </a:xfrm>
        </p:grpSpPr>
        <p:sp>
          <p:nvSpPr>
            <p:cNvPr id="679" name="AutoShape 41"/>
            <p:cNvSpPr/>
            <p:nvPr/>
          </p:nvSpPr>
          <p:spPr>
            <a:xfrm>
              <a:off x="10547280" y="8278920"/>
              <a:ext cx="2197080" cy="813960"/>
            </a:xfrm>
            <a:prstGeom prst="roundRect">
              <a:avLst>
                <a:gd name="adj" fmla="val 23435"/>
              </a:avLst>
            </a:prstGeom>
            <a:noFill/>
            <a:ln w="25560">
              <a:solidFill>
                <a:srgbClr val="bb12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0" name="Rectangle 42"/>
            <p:cNvSpPr/>
            <p:nvPr/>
          </p:nvSpPr>
          <p:spPr>
            <a:xfrm>
              <a:off x="10779120" y="8332920"/>
              <a:ext cx="1739880" cy="5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6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"/>
                  <a:ea typeface="굴림"/>
                </a:rPr>
                <a:t>Computed image sequence</a:t>
              </a:r>
              <a:endParaRPr b="0" lang="en-US" sz="1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ill Sans"/>
                <a:ea typeface="굴림"/>
              </a:rPr>
              <a:t>Experiment 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굴림"/>
              </a:rPr>
              <a:t>(cont’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43080" y="1409400"/>
            <a:ext cx="11887200" cy="834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marL="737640" indent="-474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  <a:ea typeface="굴림"/>
              </a:rPr>
              <a:t>Example 1: rotating a cylinder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1106640" indent="-474120">
              <a:spcBef>
                <a:spcPts val="15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  <a:ea typeface="굴림"/>
              </a:rPr>
              <a:t>Data preparation 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1475640" indent="-474480">
              <a:spcBef>
                <a:spcPts val="15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  <a:ea typeface="굴림"/>
              </a:rPr>
              <a:t>The target image is formed from the source by rotating it by 50 degrees.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1475640" indent="0"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475640" indent="0"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475640" indent="0"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475640" indent="0"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475640" indent="-474480">
              <a:spcBef>
                <a:spcPts val="15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  <a:ea typeface="굴림"/>
              </a:rPr>
              <a:t>Ground truth : A sequence of 20 images from the source to the target are created by rotating the source with a regular angle difference. 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83" name="Group 5"/>
          <p:cNvGrpSpPr/>
          <p:nvPr/>
        </p:nvGrpSpPr>
        <p:grpSpPr>
          <a:xfrm>
            <a:off x="2057400" y="4075200"/>
            <a:ext cx="2021040" cy="2439720"/>
            <a:chOff x="2057400" y="4075200"/>
            <a:chExt cx="2021040" cy="2439720"/>
          </a:xfrm>
        </p:grpSpPr>
        <p:pic>
          <p:nvPicPr>
            <p:cNvPr id="684" name="Picture 3" descr=""/>
            <p:cNvPicPr/>
            <p:nvPr/>
          </p:nvPicPr>
          <p:blipFill>
            <a:blip r:embed="rId1"/>
            <a:stretch/>
          </p:blipFill>
          <p:spPr>
            <a:xfrm>
              <a:off x="2057400" y="4075200"/>
              <a:ext cx="2021040" cy="20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" name="Picture 4" descr=""/>
            <p:cNvPicPr/>
            <p:nvPr/>
          </p:nvPicPr>
          <p:blipFill>
            <a:blip r:embed="rId2"/>
            <a:stretch/>
          </p:blipFill>
          <p:spPr>
            <a:xfrm>
              <a:off x="2576520" y="6194520"/>
              <a:ext cx="1028520" cy="32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6" name="Group 8"/>
          <p:cNvGrpSpPr/>
          <p:nvPr/>
        </p:nvGrpSpPr>
        <p:grpSpPr>
          <a:xfrm>
            <a:off x="4811760" y="4048200"/>
            <a:ext cx="2020680" cy="2479320"/>
            <a:chOff x="4811760" y="4048200"/>
            <a:chExt cx="2020680" cy="2479320"/>
          </a:xfrm>
        </p:grpSpPr>
        <p:pic>
          <p:nvPicPr>
            <p:cNvPr id="687" name="Picture 6" descr=""/>
            <p:cNvPicPr/>
            <p:nvPr/>
          </p:nvPicPr>
          <p:blipFill>
            <a:blip r:embed="rId3"/>
            <a:stretch/>
          </p:blipFill>
          <p:spPr>
            <a:xfrm>
              <a:off x="4811760" y="4048200"/>
              <a:ext cx="2020680" cy="20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7" descr=""/>
            <p:cNvPicPr/>
            <p:nvPr/>
          </p:nvPicPr>
          <p:blipFill>
            <a:blip r:embed="rId4"/>
            <a:stretch/>
          </p:blipFill>
          <p:spPr>
            <a:xfrm>
              <a:off x="5230440" y="6157440"/>
              <a:ext cx="964800" cy="37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9" name="Group 11"/>
          <p:cNvGrpSpPr/>
          <p:nvPr/>
        </p:nvGrpSpPr>
        <p:grpSpPr>
          <a:xfrm>
            <a:off x="7182000" y="4105440"/>
            <a:ext cx="2081160" cy="2384280"/>
            <a:chOff x="7182000" y="4105440"/>
            <a:chExt cx="2081160" cy="2384280"/>
          </a:xfrm>
        </p:grpSpPr>
        <p:pic>
          <p:nvPicPr>
            <p:cNvPr id="690" name="Picture 9" descr=""/>
            <p:cNvPicPr/>
            <p:nvPr/>
          </p:nvPicPr>
          <p:blipFill>
            <a:blip r:embed="rId5"/>
            <a:stretch/>
          </p:blipFill>
          <p:spPr>
            <a:xfrm>
              <a:off x="7182000" y="4105440"/>
              <a:ext cx="2081160" cy="18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Picture 10" descr=""/>
            <p:cNvPicPr/>
            <p:nvPr/>
          </p:nvPicPr>
          <p:blipFill>
            <a:blip r:embed="rId6"/>
            <a:stretch/>
          </p:blipFill>
          <p:spPr>
            <a:xfrm>
              <a:off x="7224840" y="6139080"/>
              <a:ext cx="1943280" cy="35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2" name="Group 14"/>
          <p:cNvGrpSpPr/>
          <p:nvPr/>
        </p:nvGrpSpPr>
        <p:grpSpPr>
          <a:xfrm>
            <a:off x="9610560" y="4118040"/>
            <a:ext cx="2076480" cy="2359080"/>
            <a:chOff x="9610560" y="4118040"/>
            <a:chExt cx="2076480" cy="2359080"/>
          </a:xfrm>
        </p:grpSpPr>
        <p:pic>
          <p:nvPicPr>
            <p:cNvPr id="693" name="Picture 12" descr=""/>
            <p:cNvPicPr/>
            <p:nvPr/>
          </p:nvPicPr>
          <p:blipFill>
            <a:blip r:embed="rId7"/>
            <a:stretch/>
          </p:blipFill>
          <p:spPr>
            <a:xfrm>
              <a:off x="9610560" y="4118040"/>
              <a:ext cx="2076480" cy="189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Picture 13" descr=""/>
            <p:cNvPicPr/>
            <p:nvPr/>
          </p:nvPicPr>
          <p:blipFill>
            <a:blip r:embed="rId8"/>
            <a:stretch/>
          </p:blipFill>
          <p:spPr>
            <a:xfrm>
              <a:off x="9678960" y="6118200"/>
              <a:ext cx="1952640" cy="358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304920" y="1472760"/>
            <a:ext cx="11887200" cy="680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  <a:ea typeface="굴림"/>
              </a:rPr>
              <a:t>Example 1: rotating a cylinder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spcBef>
                <a:spcPts val="15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  <a:ea typeface="굴림"/>
              </a:rPr>
              <a:t>Results : visual comparison </a:t>
            </a: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굴림"/>
              </a:rPr>
              <a:t>(movie files: )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6" name="Rectangle 2"/>
          <p:cNvSpPr/>
          <p:nvPr/>
        </p:nvSpPr>
        <p:spPr>
          <a:xfrm>
            <a:off x="1270080" y="349200"/>
            <a:ext cx="104774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ill Sans"/>
                <a:ea typeface="굴림"/>
              </a:rPr>
              <a:t>Experiment 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굴림"/>
              </a:rPr>
              <a:t>(cont’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97" name="Picture 3" descr=""/>
          <p:cNvPicPr/>
          <p:nvPr/>
        </p:nvPicPr>
        <p:blipFill>
          <a:blip r:embed="rId1"/>
          <a:stretch/>
        </p:blipFill>
        <p:spPr>
          <a:xfrm>
            <a:off x="2971800" y="2832120"/>
            <a:ext cx="8559720" cy="171432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" descr=""/>
          <p:cNvPicPr/>
          <p:nvPr/>
        </p:nvPicPr>
        <p:blipFill>
          <a:blip r:embed="rId2"/>
          <a:stretch/>
        </p:blipFill>
        <p:spPr>
          <a:xfrm>
            <a:off x="2971800" y="4965840"/>
            <a:ext cx="8559720" cy="17269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5" descr=""/>
          <p:cNvPicPr/>
          <p:nvPr/>
        </p:nvPicPr>
        <p:blipFill>
          <a:blip r:embed="rId3"/>
          <a:stretch/>
        </p:blipFill>
        <p:spPr>
          <a:xfrm>
            <a:off x="2971800" y="7048440"/>
            <a:ext cx="8559720" cy="1727280"/>
          </a:xfrm>
          <a:prstGeom prst="rect">
            <a:avLst/>
          </a:prstGeom>
          <a:ln w="0">
            <a:noFill/>
          </a:ln>
        </p:spPr>
      </p:pic>
      <p:sp>
        <p:nvSpPr>
          <p:cNvPr id="700" name="Rectangle 6"/>
          <p:cNvSpPr/>
          <p:nvPr/>
        </p:nvSpPr>
        <p:spPr>
          <a:xfrm>
            <a:off x="431640" y="3740040"/>
            <a:ext cx="233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  <a:ea typeface="굴림"/>
              </a:rPr>
              <a:t>The Ground Truth :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01" name="Picture 7" descr=""/>
          <p:cNvPicPr/>
          <p:nvPr/>
        </p:nvPicPr>
        <p:blipFill>
          <a:blip r:embed="rId4"/>
          <a:stretch/>
        </p:blipFill>
        <p:spPr>
          <a:xfrm>
            <a:off x="609480" y="5724360"/>
            <a:ext cx="1981440" cy="397080"/>
          </a:xfrm>
          <a:prstGeom prst="rect">
            <a:avLst/>
          </a:prstGeom>
          <a:ln w="0">
            <a:noFill/>
          </a:ln>
        </p:spPr>
      </p:pic>
      <p:sp>
        <p:nvSpPr>
          <p:cNvPr id="702" name="Rectangle 8"/>
          <p:cNvSpPr/>
          <p:nvPr/>
        </p:nvSpPr>
        <p:spPr>
          <a:xfrm>
            <a:off x="431640" y="7797960"/>
            <a:ext cx="2337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  <a:ea typeface="굴림"/>
              </a:rPr>
              <a:t>LDDMM :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03" name="Group 16"/>
          <p:cNvGrpSpPr/>
          <p:nvPr/>
        </p:nvGrpSpPr>
        <p:grpSpPr>
          <a:xfrm>
            <a:off x="2920680" y="9131400"/>
            <a:ext cx="8953560" cy="485640"/>
            <a:chOff x="2920680" y="9131400"/>
            <a:chExt cx="8953560" cy="485640"/>
          </a:xfrm>
        </p:grpSpPr>
        <p:sp>
          <p:nvSpPr>
            <p:cNvPr id="704" name="Line 9"/>
            <p:cNvSpPr/>
            <p:nvPr/>
          </p:nvSpPr>
          <p:spPr>
            <a:xfrm flipH="1" flipV="1">
              <a:off x="2920680" y="9256320"/>
              <a:ext cx="89535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5" name="Line 10"/>
            <p:cNvSpPr/>
            <p:nvPr/>
          </p:nvSpPr>
          <p:spPr>
            <a:xfrm>
              <a:off x="3782880" y="9131400"/>
              <a:ext cx="1800" cy="27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6" name="Line 11"/>
            <p:cNvSpPr/>
            <p:nvPr/>
          </p:nvSpPr>
          <p:spPr>
            <a:xfrm>
              <a:off x="10934640" y="9131400"/>
              <a:ext cx="1800" cy="27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707" name="Picture 12" descr=""/>
            <p:cNvPicPr/>
            <p:nvPr/>
          </p:nvPicPr>
          <p:blipFill>
            <a:blip r:embed="rId5"/>
            <a:stretch/>
          </p:blipFill>
          <p:spPr>
            <a:xfrm>
              <a:off x="3422520" y="9380520"/>
              <a:ext cx="7304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8" name="Picture 13" descr=""/>
            <p:cNvPicPr/>
            <p:nvPr/>
          </p:nvPicPr>
          <p:blipFill>
            <a:blip r:embed="rId6"/>
            <a:stretch/>
          </p:blipFill>
          <p:spPr>
            <a:xfrm>
              <a:off x="6964560" y="9379080"/>
              <a:ext cx="884160" cy="2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9" name="Picture 14" descr=""/>
            <p:cNvPicPr/>
            <p:nvPr/>
          </p:nvPicPr>
          <p:blipFill>
            <a:blip r:embed="rId7"/>
            <a:stretch/>
          </p:blipFill>
          <p:spPr>
            <a:xfrm>
              <a:off x="10503000" y="9383760"/>
              <a:ext cx="882720" cy="2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Line 15"/>
            <p:cNvSpPr/>
            <p:nvPr/>
          </p:nvSpPr>
          <p:spPr>
            <a:xfrm>
              <a:off x="7391520" y="9131400"/>
              <a:ext cx="1440" cy="27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11" name="Rectangle 17"/>
          <p:cNvSpPr/>
          <p:nvPr/>
        </p:nvSpPr>
        <p:spPr>
          <a:xfrm>
            <a:off x="5664240" y="4559400"/>
            <a:ext cx="3174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굴림"/>
              </a:rPr>
              <a:t>Movie file: pill_org.mov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2" name="Rectangle 18"/>
          <p:cNvSpPr/>
          <p:nvPr/>
        </p:nvSpPr>
        <p:spPr>
          <a:xfrm>
            <a:off x="5664240" y="6680160"/>
            <a:ext cx="317484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굴림"/>
              </a:rPr>
              <a:t>Movie file: pill_dense.mov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3" name="Rectangle 19"/>
          <p:cNvSpPr/>
          <p:nvPr/>
        </p:nvSpPr>
        <p:spPr>
          <a:xfrm>
            <a:off x="5664240" y="8763120"/>
            <a:ext cx="3174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굴림"/>
              </a:rPr>
              <a:t>Movie file: pill_lddmm.mov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/>
          </p:nvPr>
        </p:nvSpPr>
        <p:spPr>
          <a:xfrm>
            <a:off x="317520" y="1676160"/>
            <a:ext cx="11887200" cy="680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  <a:ea typeface="굴림"/>
              </a:rPr>
              <a:t>Example 1: rotating a cylinder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spcBef>
                <a:spcPts val="15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  <a:ea typeface="굴림"/>
              </a:rPr>
              <a:t>Results : pSNR scores.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5" name="Rectangle 2"/>
          <p:cNvSpPr/>
          <p:nvPr/>
        </p:nvSpPr>
        <p:spPr>
          <a:xfrm>
            <a:off x="1270080" y="349200"/>
            <a:ext cx="104774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ill Sans"/>
                <a:ea typeface="굴림"/>
              </a:rPr>
              <a:t>Experiment 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굴림"/>
              </a:rPr>
              <a:t>(cont’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16" name="Picture 3" descr=""/>
          <p:cNvPicPr/>
          <p:nvPr/>
        </p:nvPicPr>
        <p:blipFill>
          <a:blip r:embed="rId1"/>
          <a:stretch/>
        </p:blipFill>
        <p:spPr>
          <a:xfrm>
            <a:off x="1511280" y="3289320"/>
            <a:ext cx="7112160" cy="5334120"/>
          </a:xfrm>
          <a:prstGeom prst="rect">
            <a:avLst/>
          </a:prstGeom>
          <a:ln w="0">
            <a:noFill/>
          </a:ln>
        </p:spPr>
      </p:pic>
      <p:sp>
        <p:nvSpPr>
          <p:cNvPr id="717" name="Line 4"/>
          <p:cNvSpPr/>
          <p:nvPr/>
        </p:nvSpPr>
        <p:spPr>
          <a:xfrm flipV="1">
            <a:off x="10464120" y="3808440"/>
            <a:ext cx="1079640" cy="1440"/>
          </a:xfrm>
          <a:prstGeom prst="line">
            <a:avLst/>
          </a:prstGeom>
          <a:ln w="38160">
            <a:solidFill>
              <a:srgbClr val="ff20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8" name="Line 5"/>
          <p:cNvSpPr/>
          <p:nvPr/>
        </p:nvSpPr>
        <p:spPr>
          <a:xfrm flipV="1">
            <a:off x="10439280" y="4304880"/>
            <a:ext cx="1130400" cy="12600"/>
          </a:xfrm>
          <a:prstGeom prst="line">
            <a:avLst/>
          </a:prstGeom>
          <a:ln w="38160">
            <a:solidFill>
              <a:srgbClr val="0b0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9" name="Rectangle 6"/>
          <p:cNvSpPr/>
          <p:nvPr/>
        </p:nvSpPr>
        <p:spPr>
          <a:xfrm>
            <a:off x="8563680" y="3628440"/>
            <a:ext cx="1843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  <a:ea typeface="굴림"/>
              </a:rPr>
              <a:t>Our method :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0" name="Rectangle 7"/>
          <p:cNvSpPr/>
          <p:nvPr/>
        </p:nvSpPr>
        <p:spPr>
          <a:xfrm>
            <a:off x="9019440" y="4142880"/>
            <a:ext cx="13417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  <a:ea typeface="굴림"/>
              </a:rPr>
              <a:t>LDDMM : 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21" name=""/>
          <p:cNvGraphicFramePr/>
          <p:nvPr/>
        </p:nvGraphicFramePr>
        <p:xfrm>
          <a:off x="8292960" y="6413400"/>
          <a:ext cx="4257720" cy="1666800"/>
        </p:xfrm>
        <a:graphic>
          <a:graphicData uri="http://schemas.openxmlformats.org/drawingml/2006/table">
            <a:tbl>
              <a:tblPr/>
              <a:tblGrid>
                <a:gridCol w="1465560"/>
                <a:gridCol w="1616040"/>
                <a:gridCol w="1176120"/>
              </a:tblGrid>
              <a:tr h="6955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  <a:ea typeface="굴림"/>
                        </a:rPr>
                        <a:t>Our metho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  <a:ea typeface="굴림"/>
                        </a:rPr>
                        <a:t>LDD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Gill Sans"/>
                          <a:ea typeface="굴림"/>
                        </a:rPr>
                        <a:t>Average of pSNR scor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  <a:ea typeface="굴림"/>
                        </a:rPr>
                        <a:t>46.24d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  <a:ea typeface="굴림"/>
                        </a:rPr>
                        <a:t>26.59d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317520" y="1676160"/>
            <a:ext cx="11887200" cy="680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  <a:ea typeface="굴림"/>
              </a:rPr>
              <a:t>Example 1: rotating a cylinder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spcBef>
                <a:spcPts val="15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  <a:ea typeface="굴림"/>
              </a:rPr>
              <a:t>Results : movie file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3" name="Rectangle 2"/>
          <p:cNvSpPr/>
          <p:nvPr/>
        </p:nvSpPr>
        <p:spPr>
          <a:xfrm>
            <a:off x="1270080" y="349200"/>
            <a:ext cx="104774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ill Sans"/>
                <a:ea typeface="굴림"/>
              </a:rPr>
              <a:t>Experiment 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굴림"/>
              </a:rPr>
              <a:t>(cont’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4" name="Rectangle 6"/>
          <p:cNvSpPr/>
          <p:nvPr/>
        </p:nvSpPr>
        <p:spPr>
          <a:xfrm>
            <a:off x="733320" y="6197760"/>
            <a:ext cx="3994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  <a:ea typeface="굴림"/>
              </a:rPr>
              <a:t>Rotation of the ground truth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5" name="Rectangle 7"/>
          <p:cNvSpPr/>
          <p:nvPr/>
        </p:nvSpPr>
        <p:spPr>
          <a:xfrm>
            <a:off x="4843440" y="6095880"/>
            <a:ext cx="2870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  <a:ea typeface="굴림"/>
              </a:rPr>
              <a:t>Computed rotation by our method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6" name="Rectangle 8"/>
          <p:cNvSpPr/>
          <p:nvPr/>
        </p:nvSpPr>
        <p:spPr>
          <a:xfrm>
            <a:off x="8381880" y="6095880"/>
            <a:ext cx="2870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  <a:ea typeface="굴림"/>
              </a:rPr>
              <a:t>Computed rotation by LDDMM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27" name="pill_org" descr=""/>
          <p:cNvPicPr/>
          <p:nvPr/>
        </p:nvPicPr>
        <p:blipFill>
          <a:blip r:embed="rId1"/>
          <a:stretch/>
        </p:blipFill>
        <p:spPr>
          <a:xfrm>
            <a:off x="974880" y="3535200"/>
            <a:ext cx="3508200" cy="2632320"/>
          </a:xfrm>
          <a:prstGeom prst="rect">
            <a:avLst/>
          </a:prstGeom>
          <a:ln w="0">
            <a:noFill/>
          </a:ln>
        </p:spPr>
      </p:pic>
      <p:pic>
        <p:nvPicPr>
          <p:cNvPr id="728" name="pill_dense" descr=""/>
          <p:cNvPicPr/>
          <p:nvPr/>
        </p:nvPicPr>
        <p:blipFill>
          <a:blip r:embed="rId2"/>
          <a:stretch/>
        </p:blipFill>
        <p:spPr>
          <a:xfrm>
            <a:off x="4737240" y="3548160"/>
            <a:ext cx="3395520" cy="2547720"/>
          </a:xfrm>
          <a:prstGeom prst="rect">
            <a:avLst/>
          </a:prstGeom>
          <a:ln w="0">
            <a:noFill/>
          </a:ln>
        </p:spPr>
      </p:pic>
      <p:pic>
        <p:nvPicPr>
          <p:cNvPr id="729" name="pill_lddmm" descr=""/>
          <p:cNvPicPr/>
          <p:nvPr/>
        </p:nvPicPr>
        <p:blipFill>
          <a:blip r:embed="rId3"/>
          <a:stretch/>
        </p:blipFill>
        <p:spPr>
          <a:xfrm>
            <a:off x="8381880" y="3548160"/>
            <a:ext cx="3395880" cy="254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2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2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2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2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7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729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729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7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269720" y="101160"/>
            <a:ext cx="10464840" cy="1638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ill Sans"/>
                <a:ea typeface="굴림"/>
              </a:rPr>
              <a:t>Experiment 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굴림"/>
              </a:rPr>
              <a:t>(cont’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269720" y="1739880"/>
            <a:ext cx="10591560" cy="801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"/>
                <a:ea typeface="굴림"/>
              </a:rPr>
              <a:t>The novel framework is applied to estimate the missing frames from video footages, because it can provide easy comparison with ground truths.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"/>
                <a:ea typeface="굴림"/>
              </a:rPr>
              <a:t>The video footages contain simple human motions. 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32" name="Group 6"/>
          <p:cNvGrpSpPr/>
          <p:nvPr/>
        </p:nvGrpSpPr>
        <p:grpSpPr>
          <a:xfrm>
            <a:off x="3780000" y="5340240"/>
            <a:ext cx="888480" cy="133200"/>
            <a:chOff x="3780000" y="5340240"/>
            <a:chExt cx="888480" cy="133200"/>
          </a:xfrm>
        </p:grpSpPr>
        <p:sp>
          <p:nvSpPr>
            <p:cNvPr id="733" name="Freeform 3"/>
            <p:cNvSpPr/>
            <p:nvPr/>
          </p:nvSpPr>
          <p:spPr>
            <a:xfrm flipH="1">
              <a:off x="3780000" y="5340240"/>
              <a:ext cx="122400" cy="1332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</a:path>
              </a:pathLst>
            </a:custGeom>
            <a:solidFill>
              <a:srgbClr val="010101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4" name="Freeform 4"/>
            <p:cNvSpPr/>
            <p:nvPr/>
          </p:nvSpPr>
          <p:spPr>
            <a:xfrm flipH="1">
              <a:off x="4161240" y="5340240"/>
              <a:ext cx="123840" cy="1332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</a:path>
              </a:pathLst>
            </a:custGeom>
            <a:solidFill>
              <a:srgbClr val="010101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5" name="Freeform 5"/>
            <p:cNvSpPr/>
            <p:nvPr/>
          </p:nvSpPr>
          <p:spPr>
            <a:xfrm flipH="1">
              <a:off x="4546080" y="5340240"/>
              <a:ext cx="122400" cy="1332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</a:path>
              </a:pathLst>
            </a:custGeom>
            <a:solidFill>
              <a:srgbClr val="010101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36" name="Group 10"/>
          <p:cNvGrpSpPr/>
          <p:nvPr/>
        </p:nvGrpSpPr>
        <p:grpSpPr>
          <a:xfrm>
            <a:off x="3780000" y="6810480"/>
            <a:ext cx="888480" cy="132840"/>
            <a:chOff x="3780000" y="6810480"/>
            <a:chExt cx="888480" cy="132840"/>
          </a:xfrm>
        </p:grpSpPr>
        <p:sp>
          <p:nvSpPr>
            <p:cNvPr id="737" name="Freeform 7"/>
            <p:cNvSpPr/>
            <p:nvPr/>
          </p:nvSpPr>
          <p:spPr>
            <a:xfrm flipH="1">
              <a:off x="4546080" y="6810480"/>
              <a:ext cx="122400" cy="1328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</a:path>
              </a:pathLst>
            </a:custGeom>
            <a:solidFill>
              <a:srgbClr val="010101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8" name="Freeform 8"/>
            <p:cNvSpPr/>
            <p:nvPr/>
          </p:nvSpPr>
          <p:spPr>
            <a:xfrm flipH="1">
              <a:off x="4161240" y="6810480"/>
              <a:ext cx="123840" cy="1328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</a:path>
              </a:pathLst>
            </a:custGeom>
            <a:solidFill>
              <a:srgbClr val="010101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9" name="Freeform 9"/>
            <p:cNvSpPr/>
            <p:nvPr/>
          </p:nvSpPr>
          <p:spPr>
            <a:xfrm flipH="1">
              <a:off x="3780000" y="6810480"/>
              <a:ext cx="122400" cy="1328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</a:path>
              </a:pathLst>
            </a:custGeom>
            <a:solidFill>
              <a:srgbClr val="010101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40" name="AutoShape 11"/>
          <p:cNvSpPr/>
          <p:nvPr/>
        </p:nvSpPr>
        <p:spPr>
          <a:xfrm>
            <a:off x="1968480" y="4759200"/>
            <a:ext cx="3403800" cy="1308240"/>
          </a:xfrm>
          <a:prstGeom prst="roundRect">
            <a:avLst>
              <a:gd name="adj" fmla="val 14560"/>
            </a:avLst>
          </a:prstGeom>
          <a:noFill/>
          <a:ln w="25560">
            <a:solidFill>
              <a:srgbClr val="2021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1" name="AutoShape 12"/>
          <p:cNvSpPr/>
          <p:nvPr/>
        </p:nvSpPr>
        <p:spPr>
          <a:xfrm>
            <a:off x="1998720" y="6199200"/>
            <a:ext cx="3403440" cy="1308240"/>
          </a:xfrm>
          <a:prstGeom prst="roundRect">
            <a:avLst>
              <a:gd name="adj" fmla="val 14560"/>
            </a:avLst>
          </a:prstGeom>
          <a:noFill/>
          <a:ln w="25560">
            <a:solidFill>
              <a:srgbClr val="bb12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42" name="Group 16"/>
          <p:cNvGrpSpPr/>
          <p:nvPr/>
        </p:nvGrpSpPr>
        <p:grpSpPr>
          <a:xfrm>
            <a:off x="9190080" y="5337000"/>
            <a:ext cx="890280" cy="134640"/>
            <a:chOff x="9190080" y="5337000"/>
            <a:chExt cx="890280" cy="134640"/>
          </a:xfrm>
        </p:grpSpPr>
        <p:sp>
          <p:nvSpPr>
            <p:cNvPr id="743" name="Freeform 13"/>
            <p:cNvSpPr/>
            <p:nvPr/>
          </p:nvSpPr>
          <p:spPr>
            <a:xfrm flipH="1">
              <a:off x="9190080" y="5337000"/>
              <a:ext cx="123840" cy="1346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</a:path>
              </a:pathLst>
            </a:custGeom>
            <a:solidFill>
              <a:srgbClr val="010101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4" name="Freeform 14"/>
            <p:cNvSpPr/>
            <p:nvPr/>
          </p:nvSpPr>
          <p:spPr>
            <a:xfrm flipH="1">
              <a:off x="9573480" y="5337000"/>
              <a:ext cx="123840" cy="1346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</a:path>
              </a:pathLst>
            </a:custGeom>
            <a:solidFill>
              <a:srgbClr val="010101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5" name="Freeform 15"/>
            <p:cNvSpPr/>
            <p:nvPr/>
          </p:nvSpPr>
          <p:spPr>
            <a:xfrm flipH="1">
              <a:off x="9956520" y="5337000"/>
              <a:ext cx="123840" cy="1346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</a:path>
              </a:pathLst>
            </a:custGeom>
            <a:solidFill>
              <a:srgbClr val="010101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46" name="Group 20"/>
          <p:cNvGrpSpPr/>
          <p:nvPr/>
        </p:nvGrpSpPr>
        <p:grpSpPr>
          <a:xfrm>
            <a:off x="9193320" y="6797520"/>
            <a:ext cx="890280" cy="134640"/>
            <a:chOff x="9193320" y="6797520"/>
            <a:chExt cx="890280" cy="134640"/>
          </a:xfrm>
        </p:grpSpPr>
        <p:sp>
          <p:nvSpPr>
            <p:cNvPr id="747" name="Freeform 17"/>
            <p:cNvSpPr/>
            <p:nvPr/>
          </p:nvSpPr>
          <p:spPr>
            <a:xfrm flipH="1">
              <a:off x="9959760" y="6797520"/>
              <a:ext cx="123840" cy="1346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</a:path>
              </a:pathLst>
            </a:custGeom>
            <a:solidFill>
              <a:srgbClr val="010101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8" name="Freeform 18"/>
            <p:cNvSpPr/>
            <p:nvPr/>
          </p:nvSpPr>
          <p:spPr>
            <a:xfrm flipH="1">
              <a:off x="9576720" y="6797520"/>
              <a:ext cx="123840" cy="1346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</a:path>
              </a:pathLst>
            </a:custGeom>
            <a:solidFill>
              <a:srgbClr val="010101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9" name="Freeform 19"/>
            <p:cNvSpPr/>
            <p:nvPr/>
          </p:nvSpPr>
          <p:spPr>
            <a:xfrm flipH="1">
              <a:off x="9193320" y="6797520"/>
              <a:ext cx="123840" cy="1346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</a:path>
              </a:pathLst>
            </a:custGeom>
            <a:solidFill>
              <a:srgbClr val="010101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50" name="AutoShape 21"/>
          <p:cNvSpPr/>
          <p:nvPr/>
        </p:nvSpPr>
        <p:spPr>
          <a:xfrm>
            <a:off x="7251840" y="4746600"/>
            <a:ext cx="3504960" cy="1308240"/>
          </a:xfrm>
          <a:prstGeom prst="roundRect">
            <a:avLst>
              <a:gd name="adj" fmla="val 14560"/>
            </a:avLst>
          </a:prstGeom>
          <a:noFill/>
          <a:ln w="25560">
            <a:solidFill>
              <a:srgbClr val="2021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1" name="AutoShape 22"/>
          <p:cNvSpPr/>
          <p:nvPr/>
        </p:nvSpPr>
        <p:spPr>
          <a:xfrm>
            <a:off x="7277040" y="6194520"/>
            <a:ext cx="3505320" cy="1307880"/>
          </a:xfrm>
          <a:prstGeom prst="roundRect">
            <a:avLst>
              <a:gd name="adj" fmla="val 14560"/>
            </a:avLst>
          </a:prstGeom>
          <a:noFill/>
          <a:ln w="25560">
            <a:solidFill>
              <a:srgbClr val="bb12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52" name="Group 25"/>
          <p:cNvGrpSpPr/>
          <p:nvPr/>
        </p:nvGrpSpPr>
        <p:grpSpPr>
          <a:xfrm>
            <a:off x="417600" y="6281640"/>
            <a:ext cx="1455480" cy="1077840"/>
            <a:chOff x="417600" y="6281640"/>
            <a:chExt cx="1455480" cy="1077840"/>
          </a:xfrm>
        </p:grpSpPr>
        <p:sp>
          <p:nvSpPr>
            <p:cNvPr id="753" name="AutoShape 23"/>
            <p:cNvSpPr/>
            <p:nvPr/>
          </p:nvSpPr>
          <p:spPr>
            <a:xfrm>
              <a:off x="417600" y="6281640"/>
              <a:ext cx="1455480" cy="1077840"/>
            </a:xfrm>
            <a:prstGeom prst="roundRect">
              <a:avLst>
                <a:gd name="adj" fmla="val 17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754" name="Picture 24" descr=""/>
            <p:cNvPicPr/>
            <p:nvPr/>
          </p:nvPicPr>
          <p:blipFill>
            <a:blip r:embed="rId1"/>
            <a:stretch/>
          </p:blipFill>
          <p:spPr>
            <a:xfrm>
              <a:off x="448920" y="6662520"/>
              <a:ext cx="1406160" cy="28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5" name="Group 28"/>
          <p:cNvGrpSpPr/>
          <p:nvPr/>
        </p:nvGrpSpPr>
        <p:grpSpPr>
          <a:xfrm>
            <a:off x="2100240" y="6308640"/>
            <a:ext cx="1455840" cy="1077840"/>
            <a:chOff x="2100240" y="6308640"/>
            <a:chExt cx="1455840" cy="1077840"/>
          </a:xfrm>
        </p:grpSpPr>
        <p:pic>
          <p:nvPicPr>
            <p:cNvPr id="756" name="Picture 26" descr=""/>
            <p:cNvPicPr/>
            <p:nvPr/>
          </p:nvPicPr>
          <p:blipFill>
            <a:blip r:embed="rId2"/>
            <a:stretch/>
          </p:blipFill>
          <p:spPr>
            <a:xfrm>
              <a:off x="2125800" y="6683400"/>
              <a:ext cx="1412640" cy="28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AutoShape 27"/>
            <p:cNvSpPr/>
            <p:nvPr/>
          </p:nvSpPr>
          <p:spPr>
            <a:xfrm>
              <a:off x="2100240" y="6308640"/>
              <a:ext cx="1455840" cy="1077840"/>
            </a:xfrm>
            <a:prstGeom prst="roundRect">
              <a:avLst>
                <a:gd name="adj" fmla="val 17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58" name="Group 31"/>
          <p:cNvGrpSpPr/>
          <p:nvPr/>
        </p:nvGrpSpPr>
        <p:grpSpPr>
          <a:xfrm>
            <a:off x="5594400" y="6308640"/>
            <a:ext cx="1454040" cy="1077840"/>
            <a:chOff x="5594400" y="6308640"/>
            <a:chExt cx="1454040" cy="1077840"/>
          </a:xfrm>
        </p:grpSpPr>
        <p:pic>
          <p:nvPicPr>
            <p:cNvPr id="759" name="Picture 29" descr=""/>
            <p:cNvPicPr/>
            <p:nvPr/>
          </p:nvPicPr>
          <p:blipFill>
            <a:blip r:embed="rId3"/>
            <a:stretch/>
          </p:blipFill>
          <p:spPr>
            <a:xfrm>
              <a:off x="5608800" y="6575400"/>
              <a:ext cx="14126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AutoShape 30"/>
            <p:cNvSpPr/>
            <p:nvPr/>
          </p:nvSpPr>
          <p:spPr>
            <a:xfrm>
              <a:off x="5594400" y="6308640"/>
              <a:ext cx="1454040" cy="1077840"/>
            </a:xfrm>
            <a:prstGeom prst="roundRect">
              <a:avLst>
                <a:gd name="adj" fmla="val 17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61" name="Group 34"/>
          <p:cNvGrpSpPr/>
          <p:nvPr/>
        </p:nvGrpSpPr>
        <p:grpSpPr>
          <a:xfrm>
            <a:off x="7397640" y="6324480"/>
            <a:ext cx="1454040" cy="1079640"/>
            <a:chOff x="7397640" y="6324480"/>
            <a:chExt cx="1454040" cy="1079640"/>
          </a:xfrm>
        </p:grpSpPr>
        <p:sp>
          <p:nvSpPr>
            <p:cNvPr id="762" name="AutoShape 32"/>
            <p:cNvSpPr/>
            <p:nvPr/>
          </p:nvSpPr>
          <p:spPr>
            <a:xfrm>
              <a:off x="7397640" y="6324480"/>
              <a:ext cx="1454040" cy="1079640"/>
            </a:xfrm>
            <a:prstGeom prst="roundRect">
              <a:avLst>
                <a:gd name="adj" fmla="val 17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763" name="Picture 33" descr=""/>
            <p:cNvPicPr/>
            <p:nvPr/>
          </p:nvPicPr>
          <p:blipFill>
            <a:blip r:embed="rId4"/>
            <a:stretch/>
          </p:blipFill>
          <p:spPr>
            <a:xfrm>
              <a:off x="7418160" y="6697440"/>
              <a:ext cx="142092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4" name="Group 37"/>
          <p:cNvGrpSpPr/>
          <p:nvPr/>
        </p:nvGrpSpPr>
        <p:grpSpPr>
          <a:xfrm>
            <a:off x="10890360" y="6288120"/>
            <a:ext cx="1454040" cy="1077840"/>
            <a:chOff x="10890360" y="6288120"/>
            <a:chExt cx="1454040" cy="1077840"/>
          </a:xfrm>
        </p:grpSpPr>
        <p:sp>
          <p:nvSpPr>
            <p:cNvPr id="765" name="AutoShape 35"/>
            <p:cNvSpPr/>
            <p:nvPr/>
          </p:nvSpPr>
          <p:spPr>
            <a:xfrm>
              <a:off x="10890360" y="6288120"/>
              <a:ext cx="1454040" cy="1077840"/>
            </a:xfrm>
            <a:prstGeom prst="roundRect">
              <a:avLst>
                <a:gd name="adj" fmla="val 17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766" name="Picture 36" descr=""/>
            <p:cNvPicPr/>
            <p:nvPr/>
          </p:nvPicPr>
          <p:blipFill>
            <a:blip r:embed="rId5"/>
            <a:stretch/>
          </p:blipFill>
          <p:spPr>
            <a:xfrm>
              <a:off x="10956960" y="6684840"/>
              <a:ext cx="1330560" cy="29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7" name="Group 40"/>
          <p:cNvGrpSpPr/>
          <p:nvPr/>
        </p:nvGrpSpPr>
        <p:grpSpPr>
          <a:xfrm>
            <a:off x="419040" y="4844880"/>
            <a:ext cx="1454040" cy="1077840"/>
            <a:chOff x="419040" y="4844880"/>
            <a:chExt cx="1454040" cy="1077840"/>
          </a:xfrm>
        </p:grpSpPr>
        <p:sp>
          <p:nvSpPr>
            <p:cNvPr id="768" name="AutoShape 38"/>
            <p:cNvSpPr/>
            <p:nvPr/>
          </p:nvSpPr>
          <p:spPr>
            <a:xfrm>
              <a:off x="419040" y="4844880"/>
              <a:ext cx="1454040" cy="1077840"/>
            </a:xfrm>
            <a:prstGeom prst="roundRect">
              <a:avLst>
                <a:gd name="adj" fmla="val 17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769" name="Picture 39" descr=""/>
            <p:cNvPicPr/>
            <p:nvPr/>
          </p:nvPicPr>
          <p:blipFill>
            <a:blip r:embed="rId6"/>
            <a:stretch/>
          </p:blipFill>
          <p:spPr>
            <a:xfrm>
              <a:off x="627120" y="5189400"/>
              <a:ext cx="103644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0" name="Group 43"/>
          <p:cNvGrpSpPr/>
          <p:nvPr/>
        </p:nvGrpSpPr>
        <p:grpSpPr>
          <a:xfrm>
            <a:off x="2093760" y="4883040"/>
            <a:ext cx="1454040" cy="1077840"/>
            <a:chOff x="2093760" y="4883040"/>
            <a:chExt cx="1454040" cy="1077840"/>
          </a:xfrm>
        </p:grpSpPr>
        <p:sp>
          <p:nvSpPr>
            <p:cNvPr id="771" name="AutoShape 41"/>
            <p:cNvSpPr/>
            <p:nvPr/>
          </p:nvSpPr>
          <p:spPr>
            <a:xfrm>
              <a:off x="2093760" y="4883040"/>
              <a:ext cx="1454040" cy="1077840"/>
            </a:xfrm>
            <a:prstGeom prst="roundRect">
              <a:avLst>
                <a:gd name="adj" fmla="val 17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772" name="Picture 42" descr=""/>
            <p:cNvPicPr/>
            <p:nvPr/>
          </p:nvPicPr>
          <p:blipFill>
            <a:blip r:embed="rId7"/>
            <a:stretch/>
          </p:blipFill>
          <p:spPr>
            <a:xfrm>
              <a:off x="2301840" y="5195880"/>
              <a:ext cx="103644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3" name="Group 46"/>
          <p:cNvGrpSpPr/>
          <p:nvPr/>
        </p:nvGrpSpPr>
        <p:grpSpPr>
          <a:xfrm>
            <a:off x="5592600" y="4883040"/>
            <a:ext cx="1454040" cy="1077840"/>
            <a:chOff x="5592600" y="4883040"/>
            <a:chExt cx="1454040" cy="1077840"/>
          </a:xfrm>
        </p:grpSpPr>
        <p:sp>
          <p:nvSpPr>
            <p:cNvPr id="774" name="AutoShape 44"/>
            <p:cNvSpPr/>
            <p:nvPr/>
          </p:nvSpPr>
          <p:spPr>
            <a:xfrm>
              <a:off x="5592600" y="4883040"/>
              <a:ext cx="1454040" cy="1077840"/>
            </a:xfrm>
            <a:prstGeom prst="roundRect">
              <a:avLst>
                <a:gd name="adj" fmla="val 17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775" name="Picture 45" descr=""/>
            <p:cNvPicPr/>
            <p:nvPr/>
          </p:nvPicPr>
          <p:blipFill>
            <a:blip r:embed="rId8"/>
            <a:stretch/>
          </p:blipFill>
          <p:spPr>
            <a:xfrm>
              <a:off x="5746680" y="5038560"/>
              <a:ext cx="1144440" cy="70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6" name="Group 49"/>
          <p:cNvGrpSpPr/>
          <p:nvPr/>
        </p:nvGrpSpPr>
        <p:grpSpPr>
          <a:xfrm>
            <a:off x="7370640" y="4879800"/>
            <a:ext cx="1455840" cy="1077840"/>
            <a:chOff x="7370640" y="4879800"/>
            <a:chExt cx="1455840" cy="1077840"/>
          </a:xfrm>
        </p:grpSpPr>
        <p:sp>
          <p:nvSpPr>
            <p:cNvPr id="777" name="AutoShape 47"/>
            <p:cNvSpPr/>
            <p:nvPr/>
          </p:nvSpPr>
          <p:spPr>
            <a:xfrm>
              <a:off x="7370640" y="4879800"/>
              <a:ext cx="1455840" cy="1077840"/>
            </a:xfrm>
            <a:prstGeom prst="roundRect">
              <a:avLst>
                <a:gd name="adj" fmla="val 17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778" name="Picture 48" descr=""/>
            <p:cNvPicPr/>
            <p:nvPr/>
          </p:nvPicPr>
          <p:blipFill>
            <a:blip r:embed="rId9"/>
            <a:stretch/>
          </p:blipFill>
          <p:spPr>
            <a:xfrm>
              <a:off x="7578720" y="5182920"/>
              <a:ext cx="103644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9" name="Group 52"/>
          <p:cNvGrpSpPr/>
          <p:nvPr/>
        </p:nvGrpSpPr>
        <p:grpSpPr>
          <a:xfrm>
            <a:off x="10871280" y="4826160"/>
            <a:ext cx="1455480" cy="1077840"/>
            <a:chOff x="10871280" y="4826160"/>
            <a:chExt cx="1455480" cy="1077840"/>
          </a:xfrm>
        </p:grpSpPr>
        <p:sp>
          <p:nvSpPr>
            <p:cNvPr id="780" name="AutoShape 50"/>
            <p:cNvSpPr/>
            <p:nvPr/>
          </p:nvSpPr>
          <p:spPr>
            <a:xfrm>
              <a:off x="10871280" y="4826160"/>
              <a:ext cx="1455480" cy="1077840"/>
            </a:xfrm>
            <a:prstGeom prst="roundRect">
              <a:avLst>
                <a:gd name="adj" fmla="val 17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781" name="Picture 51" descr=""/>
            <p:cNvPicPr/>
            <p:nvPr/>
          </p:nvPicPr>
          <p:blipFill>
            <a:blip r:embed="rId10"/>
            <a:stretch/>
          </p:blipFill>
          <p:spPr>
            <a:xfrm>
              <a:off x="11069280" y="5181840"/>
              <a:ext cx="1056960" cy="428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2" name="Group 55"/>
          <p:cNvGrpSpPr/>
          <p:nvPr/>
        </p:nvGrpSpPr>
        <p:grpSpPr>
          <a:xfrm>
            <a:off x="3416400" y="8196120"/>
            <a:ext cx="2438280" cy="855720"/>
            <a:chOff x="3416400" y="8196120"/>
            <a:chExt cx="2438280" cy="855720"/>
          </a:xfrm>
        </p:grpSpPr>
        <p:sp>
          <p:nvSpPr>
            <p:cNvPr id="783" name="AutoShape 53"/>
            <p:cNvSpPr/>
            <p:nvPr/>
          </p:nvSpPr>
          <p:spPr>
            <a:xfrm>
              <a:off x="3508560" y="8196120"/>
              <a:ext cx="2249280" cy="855720"/>
            </a:xfrm>
            <a:prstGeom prst="roundRect">
              <a:avLst>
                <a:gd name="adj" fmla="val 22222"/>
              </a:avLst>
            </a:prstGeom>
            <a:noFill/>
            <a:ln w="25560">
              <a:solidFill>
                <a:srgbClr val="2021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4" name="Rectangle 54"/>
            <p:cNvSpPr/>
            <p:nvPr/>
          </p:nvSpPr>
          <p:spPr>
            <a:xfrm>
              <a:off x="3416400" y="8324640"/>
              <a:ext cx="243828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5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굴림"/>
                </a:rPr>
                <a:t>The ground truth of missing frame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85" name="Group 58"/>
          <p:cNvGrpSpPr/>
          <p:nvPr/>
        </p:nvGrpSpPr>
        <p:grpSpPr>
          <a:xfrm>
            <a:off x="7270920" y="8164440"/>
            <a:ext cx="2197080" cy="813960"/>
            <a:chOff x="7270920" y="8164440"/>
            <a:chExt cx="2197080" cy="813960"/>
          </a:xfrm>
        </p:grpSpPr>
        <p:sp>
          <p:nvSpPr>
            <p:cNvPr id="786" name="AutoShape 56"/>
            <p:cNvSpPr/>
            <p:nvPr/>
          </p:nvSpPr>
          <p:spPr>
            <a:xfrm>
              <a:off x="7270920" y="8164440"/>
              <a:ext cx="2197080" cy="813960"/>
            </a:xfrm>
            <a:prstGeom prst="roundRect">
              <a:avLst>
                <a:gd name="adj" fmla="val 23435"/>
              </a:avLst>
            </a:prstGeom>
            <a:noFill/>
            <a:ln w="25560">
              <a:solidFill>
                <a:srgbClr val="bb12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7" name="Rectangle 57"/>
            <p:cNvSpPr/>
            <p:nvPr/>
          </p:nvSpPr>
          <p:spPr>
            <a:xfrm>
              <a:off x="7502760" y="8218440"/>
              <a:ext cx="1739880" cy="5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7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"/>
                  <a:ea typeface="굴림"/>
                </a:rPr>
                <a:t>Computed missing frames</a:t>
              </a:r>
              <a:endParaRPr b="0" lang="en-US" sz="1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Gill Sans"/>
                <a:ea typeface="굴림"/>
              </a:rPr>
              <a:t>The purpose of this paper </a:t>
            </a:r>
            <a:endParaRPr b="0" lang="en-US" sz="6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53720" y="1707840"/>
            <a:ext cx="10704600" cy="746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ill Sans"/>
                <a:ea typeface="굴림"/>
              </a:rPr>
              <a:t>To introduce a novel framework for interpolating diffeomorphisms.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ill Sans"/>
                <a:ea typeface="굴림"/>
              </a:rPr>
              <a:t>Problem: Given two diffeomorphisms, find a “taut” path of diffeomorphisms between them.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863280" y="13968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굴림"/>
              </a:rPr>
              <a:t>Example 2: bending mo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spcBef>
                <a:spcPts val="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굴림"/>
              </a:rPr>
              <a:t>The original video footage is provided in .mov format.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spcBef>
                <a:spcPts val="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굴림"/>
              </a:rPr>
              <a:t>The footage is sampled in 30 fps, and it produces 34 image frames.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spcBef>
                <a:spcPts val="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굴림"/>
              </a:rPr>
              <a:t>All frames except the first, last and 17th frames are removed.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spcBef>
                <a:spcPts val="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굴림"/>
              </a:rPr>
              <a:t>The missing frames are then estimated using our framework.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9" name="Rectangle 2"/>
          <p:cNvSpPr/>
          <p:nvPr/>
        </p:nvSpPr>
        <p:spPr>
          <a:xfrm>
            <a:off x="1270080" y="349200"/>
            <a:ext cx="104774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ill Sans"/>
                <a:ea typeface="굴림"/>
              </a:rPr>
              <a:t>Experiment 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굴림"/>
              </a:rPr>
              <a:t>(cont’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90" name="Picture 3" descr=""/>
          <p:cNvPicPr/>
          <p:nvPr/>
        </p:nvPicPr>
        <p:blipFill>
          <a:blip r:embed="rId1"/>
          <a:stretch/>
        </p:blipFill>
        <p:spPr>
          <a:xfrm>
            <a:off x="1384200" y="5499000"/>
            <a:ext cx="2540160" cy="127008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4" descr=""/>
          <p:cNvPicPr/>
          <p:nvPr/>
        </p:nvPicPr>
        <p:blipFill>
          <a:blip r:embed="rId2"/>
          <a:stretch/>
        </p:blipFill>
        <p:spPr>
          <a:xfrm>
            <a:off x="5587920" y="5499000"/>
            <a:ext cx="2540160" cy="127008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5" descr=""/>
          <p:cNvPicPr/>
          <p:nvPr/>
        </p:nvPicPr>
        <p:blipFill>
          <a:blip r:embed="rId3"/>
          <a:stretch/>
        </p:blipFill>
        <p:spPr>
          <a:xfrm>
            <a:off x="9524880" y="5499000"/>
            <a:ext cx="2540160" cy="1270080"/>
          </a:xfrm>
          <a:prstGeom prst="rect">
            <a:avLst/>
          </a:prstGeom>
          <a:ln w="0">
            <a:noFill/>
          </a:ln>
        </p:spPr>
      </p:pic>
      <p:sp>
        <p:nvSpPr>
          <p:cNvPr id="793" name="Rectangle 6"/>
          <p:cNvSpPr/>
          <p:nvPr/>
        </p:nvSpPr>
        <p:spPr>
          <a:xfrm>
            <a:off x="1000080" y="6762600"/>
            <a:ext cx="2365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  <a:ea typeface="굴림"/>
              </a:rPr>
              <a:t>The first frame :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5504760" y="6762600"/>
            <a:ext cx="2451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  <a:ea typeface="굴림"/>
              </a:rPr>
              <a:t>The 17th frame :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5" name="Rectangle 8"/>
          <p:cNvSpPr/>
          <p:nvPr/>
        </p:nvSpPr>
        <p:spPr>
          <a:xfrm>
            <a:off x="9438480" y="6762600"/>
            <a:ext cx="2305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  <a:ea typeface="굴림"/>
              </a:rPr>
              <a:t>The last frame :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96" name="Picture 9" descr=""/>
          <p:cNvPicPr/>
          <p:nvPr/>
        </p:nvPicPr>
        <p:blipFill>
          <a:blip r:embed="rId4"/>
          <a:stretch/>
        </p:blipFill>
        <p:spPr>
          <a:xfrm>
            <a:off x="7645320" y="7391520"/>
            <a:ext cx="2379600" cy="157464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10" descr=""/>
          <p:cNvPicPr/>
          <p:nvPr/>
        </p:nvPicPr>
        <p:blipFill>
          <a:blip r:embed="rId5"/>
          <a:stretch/>
        </p:blipFill>
        <p:spPr>
          <a:xfrm>
            <a:off x="3543480" y="7362720"/>
            <a:ext cx="2400120" cy="1616040"/>
          </a:xfrm>
          <a:prstGeom prst="rect">
            <a:avLst/>
          </a:prstGeom>
          <a:ln w="0">
            <a:noFill/>
          </a:ln>
        </p:spPr>
      </p:pic>
      <p:sp>
        <p:nvSpPr>
          <p:cNvPr id="798" name="Rectangle 11"/>
          <p:cNvSpPr/>
          <p:nvPr/>
        </p:nvSpPr>
        <p:spPr>
          <a:xfrm>
            <a:off x="3376440" y="8934480"/>
            <a:ext cx="2743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굴림"/>
              </a:rPr>
              <a:t>: a map from the first frame to the 17th fram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9" name="Rectangle 12"/>
          <p:cNvSpPr/>
          <p:nvPr/>
        </p:nvSpPr>
        <p:spPr>
          <a:xfrm>
            <a:off x="7480440" y="8940960"/>
            <a:ext cx="2743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굴림"/>
              </a:rPr>
              <a:t>: a map from the 17th frame to the last fram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00" name="Picture 13" descr=""/>
          <p:cNvPicPr/>
          <p:nvPr/>
        </p:nvPicPr>
        <p:blipFill>
          <a:blip r:embed="rId6"/>
          <a:stretch/>
        </p:blipFill>
        <p:spPr>
          <a:xfrm>
            <a:off x="3352680" y="8950320"/>
            <a:ext cx="292320" cy="24444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14" descr=""/>
          <p:cNvPicPr/>
          <p:nvPr/>
        </p:nvPicPr>
        <p:blipFill>
          <a:blip r:embed="rId7"/>
          <a:stretch/>
        </p:blipFill>
        <p:spPr>
          <a:xfrm>
            <a:off x="7429680" y="8953560"/>
            <a:ext cx="298440" cy="24120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15" descr=""/>
          <p:cNvPicPr/>
          <p:nvPr/>
        </p:nvPicPr>
        <p:blipFill>
          <a:blip r:embed="rId8"/>
          <a:stretch/>
        </p:blipFill>
        <p:spPr>
          <a:xfrm>
            <a:off x="11646000" y="6842160"/>
            <a:ext cx="571320" cy="28260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16" descr=""/>
          <p:cNvPicPr/>
          <p:nvPr/>
        </p:nvPicPr>
        <p:blipFill>
          <a:blip r:embed="rId9"/>
          <a:stretch/>
        </p:blipFill>
        <p:spPr>
          <a:xfrm>
            <a:off x="7889760" y="6870600"/>
            <a:ext cx="639720" cy="2793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17" descr=""/>
          <p:cNvPicPr/>
          <p:nvPr/>
        </p:nvPicPr>
        <p:blipFill>
          <a:blip r:embed="rId10"/>
          <a:stretch/>
        </p:blipFill>
        <p:spPr>
          <a:xfrm>
            <a:off x="3300480" y="6832440"/>
            <a:ext cx="788760" cy="35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104648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ill Sans"/>
                <a:ea typeface="굴림"/>
              </a:rPr>
              <a:t>Experiment 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굴림"/>
              </a:rPr>
              <a:t>(cont’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98400" y="1276200"/>
            <a:ext cx="11607840" cy="824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굴림"/>
              </a:rPr>
              <a:t>Example 2: bending mo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spcBef>
                <a:spcPts val="15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굴림"/>
              </a:rPr>
              <a:t>There are two diffeomorphic paths to be estimated : between the first and 17th frames, and between the 17th and last frames.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spcBef>
                <a:spcPts val="15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굴림"/>
              </a:rPr>
              <a:t>Results : estimated missing frames ,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07" name="Picture 3" descr=""/>
          <p:cNvPicPr/>
          <p:nvPr/>
        </p:nvPicPr>
        <p:blipFill>
          <a:blip r:embed="rId1"/>
          <a:stretch/>
        </p:blipFill>
        <p:spPr>
          <a:xfrm>
            <a:off x="533520" y="4521240"/>
            <a:ext cx="5902200" cy="92376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4" descr=""/>
          <p:cNvPicPr/>
          <p:nvPr/>
        </p:nvPicPr>
        <p:blipFill>
          <a:blip r:embed="rId2"/>
          <a:stretch/>
        </p:blipFill>
        <p:spPr>
          <a:xfrm>
            <a:off x="533520" y="6072120"/>
            <a:ext cx="5902200" cy="92412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"/>
          <p:cNvPicPr/>
          <p:nvPr/>
        </p:nvPicPr>
        <p:blipFill>
          <a:blip r:embed="rId3"/>
          <a:stretch/>
        </p:blipFill>
        <p:spPr>
          <a:xfrm>
            <a:off x="533520" y="7621560"/>
            <a:ext cx="5902200" cy="92556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6" descr=""/>
          <p:cNvPicPr/>
          <p:nvPr/>
        </p:nvPicPr>
        <p:blipFill>
          <a:blip r:embed="rId4"/>
          <a:stretch/>
        </p:blipFill>
        <p:spPr>
          <a:xfrm>
            <a:off x="6959520" y="4545000"/>
            <a:ext cx="5632560" cy="8827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7" descr=""/>
          <p:cNvPicPr/>
          <p:nvPr/>
        </p:nvPicPr>
        <p:blipFill>
          <a:blip r:embed="rId5"/>
          <a:stretch/>
        </p:blipFill>
        <p:spPr>
          <a:xfrm>
            <a:off x="6959520" y="6087960"/>
            <a:ext cx="5632560" cy="88272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8" descr=""/>
          <p:cNvPicPr/>
          <p:nvPr/>
        </p:nvPicPr>
        <p:blipFill>
          <a:blip r:embed="rId6"/>
          <a:stretch/>
        </p:blipFill>
        <p:spPr>
          <a:xfrm>
            <a:off x="6959520" y="7637400"/>
            <a:ext cx="5632560" cy="882720"/>
          </a:xfrm>
          <a:prstGeom prst="rect">
            <a:avLst/>
          </a:prstGeom>
          <a:ln w="0">
            <a:noFill/>
          </a:ln>
        </p:spPr>
      </p:pic>
      <p:sp>
        <p:nvSpPr>
          <p:cNvPr id="813" name="Rectangle 9"/>
          <p:cNvSpPr/>
          <p:nvPr/>
        </p:nvSpPr>
        <p:spPr>
          <a:xfrm>
            <a:off x="1062000" y="3924360"/>
            <a:ext cx="56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7000"/>
          </a:bodyPr>
          <a:p>
            <a:pPr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  <a:ea typeface="굴림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Gill Sans"/>
                <a:ea typeface="굴림"/>
              </a:rPr>
              <a:t>Between the first and 17th frames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4" name="Rectangle 10"/>
          <p:cNvSpPr/>
          <p:nvPr/>
        </p:nvSpPr>
        <p:spPr>
          <a:xfrm>
            <a:off x="7175520" y="3924360"/>
            <a:ext cx="56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7000"/>
          </a:bodyPr>
          <a:p>
            <a:pPr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  <a:ea typeface="굴림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Gill Sans"/>
                <a:ea typeface="굴림"/>
              </a:rPr>
              <a:t>Between the 17th and last frames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5" name="Rectangle 11"/>
          <p:cNvSpPr/>
          <p:nvPr/>
        </p:nvSpPr>
        <p:spPr>
          <a:xfrm>
            <a:off x="2202840" y="5429160"/>
            <a:ext cx="2576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  <a:ea typeface="굴림"/>
              </a:rPr>
              <a:t>The ground truth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6" name="Rectangle 12"/>
          <p:cNvSpPr/>
          <p:nvPr/>
        </p:nvSpPr>
        <p:spPr>
          <a:xfrm>
            <a:off x="8493480" y="5429160"/>
            <a:ext cx="2576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  <a:ea typeface="굴림"/>
              </a:rPr>
              <a:t>The ground truth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7" name="Rectangle 13"/>
          <p:cNvSpPr/>
          <p:nvPr/>
        </p:nvSpPr>
        <p:spPr>
          <a:xfrm>
            <a:off x="2891160" y="8489880"/>
            <a:ext cx="1206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  <a:ea typeface="굴림"/>
              </a:rPr>
              <a:t>LDDMM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8" name="Rectangle 14"/>
          <p:cNvSpPr/>
          <p:nvPr/>
        </p:nvSpPr>
        <p:spPr>
          <a:xfrm>
            <a:off x="9177480" y="8489880"/>
            <a:ext cx="1206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  <a:ea typeface="굴림"/>
              </a:rPr>
              <a:t>LDDMM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19" name="Picture 15" descr=""/>
          <p:cNvPicPr/>
          <p:nvPr/>
        </p:nvPicPr>
        <p:blipFill>
          <a:blip r:embed="rId7"/>
          <a:stretch/>
        </p:blipFill>
        <p:spPr>
          <a:xfrm>
            <a:off x="2616120" y="7023240"/>
            <a:ext cx="1747800" cy="3474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16" descr=""/>
          <p:cNvPicPr/>
          <p:nvPr/>
        </p:nvPicPr>
        <p:blipFill>
          <a:blip r:embed="rId8"/>
          <a:stretch/>
        </p:blipFill>
        <p:spPr>
          <a:xfrm>
            <a:off x="8921880" y="7021440"/>
            <a:ext cx="1689120" cy="344520"/>
          </a:xfrm>
          <a:prstGeom prst="rect">
            <a:avLst/>
          </a:prstGeom>
          <a:ln w="0">
            <a:noFill/>
          </a:ln>
        </p:spPr>
      </p:pic>
      <p:sp>
        <p:nvSpPr>
          <p:cNvPr id="821" name="Rectangle 17"/>
          <p:cNvSpPr/>
          <p:nvPr/>
        </p:nvSpPr>
        <p:spPr>
          <a:xfrm>
            <a:off x="3072960" y="8962200"/>
            <a:ext cx="714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buClr>
                <a:srgbClr val="000000"/>
              </a:buClr>
              <a:buSzPct val="125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굴림"/>
              </a:rPr>
              <a:t>Results are down-sampled by half to save sp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SzPct val="125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굴림"/>
              </a:rPr>
              <a:t>Movies are provided in .mov format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2" name="Rectangle 18"/>
          <p:cNvSpPr/>
          <p:nvPr/>
        </p:nvSpPr>
        <p:spPr>
          <a:xfrm>
            <a:off x="5194440" y="5486400"/>
            <a:ext cx="3174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굴림"/>
              </a:rPr>
              <a:t>Movie file: bending_org.mov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3" name="Rectangle 19"/>
          <p:cNvSpPr/>
          <p:nvPr/>
        </p:nvSpPr>
        <p:spPr>
          <a:xfrm>
            <a:off x="5067360" y="7176960"/>
            <a:ext cx="3429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굴림"/>
              </a:rPr>
              <a:t>Movie file: bending_dense.mov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4" name="Rectangle 20"/>
          <p:cNvSpPr/>
          <p:nvPr/>
        </p:nvSpPr>
        <p:spPr>
          <a:xfrm>
            <a:off x="5067360" y="8534520"/>
            <a:ext cx="3429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굴림"/>
              </a:rPr>
              <a:t>Movie file: bending_lddmm.mov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104648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ill Sans"/>
                <a:ea typeface="굴림"/>
              </a:rPr>
              <a:t>Experiment 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굴림"/>
              </a:rPr>
              <a:t>(cont’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98400" y="1510920"/>
            <a:ext cx="11607840" cy="824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굴림"/>
              </a:rPr>
              <a:t>Example 2: bending mo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spcBef>
                <a:spcPts val="15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굴림"/>
              </a:rPr>
              <a:t>Results : pSNR scor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7" name="Picture 3" descr=""/>
          <p:cNvPicPr/>
          <p:nvPr/>
        </p:nvPicPr>
        <p:blipFill>
          <a:blip r:embed="rId1"/>
          <a:stretch/>
        </p:blipFill>
        <p:spPr>
          <a:xfrm>
            <a:off x="838080" y="3060720"/>
            <a:ext cx="7365960" cy="5460840"/>
          </a:xfrm>
          <a:prstGeom prst="rect">
            <a:avLst/>
          </a:prstGeom>
          <a:ln w="0">
            <a:noFill/>
          </a:ln>
        </p:spPr>
      </p:pic>
      <p:sp>
        <p:nvSpPr>
          <p:cNvPr id="828" name="Line 4"/>
          <p:cNvSpPr/>
          <p:nvPr/>
        </p:nvSpPr>
        <p:spPr>
          <a:xfrm flipV="1">
            <a:off x="10464120" y="3808440"/>
            <a:ext cx="1079640" cy="1440"/>
          </a:xfrm>
          <a:prstGeom prst="line">
            <a:avLst/>
          </a:prstGeom>
          <a:ln w="38160">
            <a:solidFill>
              <a:srgbClr val="ff20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9" name="Line 5"/>
          <p:cNvSpPr/>
          <p:nvPr/>
        </p:nvSpPr>
        <p:spPr>
          <a:xfrm flipV="1">
            <a:off x="10439280" y="4304880"/>
            <a:ext cx="1130400" cy="12600"/>
          </a:xfrm>
          <a:prstGeom prst="line">
            <a:avLst/>
          </a:prstGeom>
          <a:ln w="38160">
            <a:solidFill>
              <a:srgbClr val="0b0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0" name="Rectangle 6"/>
          <p:cNvSpPr/>
          <p:nvPr/>
        </p:nvSpPr>
        <p:spPr>
          <a:xfrm>
            <a:off x="8563680" y="3628440"/>
            <a:ext cx="1843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  <a:ea typeface="굴림"/>
              </a:rPr>
              <a:t>Our method :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1" name="Rectangle 7"/>
          <p:cNvSpPr/>
          <p:nvPr/>
        </p:nvSpPr>
        <p:spPr>
          <a:xfrm>
            <a:off x="9019440" y="4142880"/>
            <a:ext cx="13417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  <a:ea typeface="굴림"/>
              </a:rPr>
              <a:t>LDDMM : 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2" name=""/>
          <p:cNvGraphicFramePr/>
          <p:nvPr/>
        </p:nvGraphicFramePr>
        <p:xfrm>
          <a:off x="8292960" y="6413400"/>
          <a:ext cx="4203720" cy="1685880"/>
        </p:xfrm>
        <a:graphic>
          <a:graphicData uri="http://schemas.openxmlformats.org/drawingml/2006/table">
            <a:tbl>
              <a:tblPr/>
              <a:tblGrid>
                <a:gridCol w="1446480"/>
                <a:gridCol w="1595160"/>
                <a:gridCol w="1162080"/>
              </a:tblGrid>
              <a:tr h="7160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  <a:ea typeface="굴림"/>
                        </a:rPr>
                        <a:t>Our metho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  <a:ea typeface="굴림"/>
                        </a:rPr>
                        <a:t>LDD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Gill Sans"/>
                          <a:ea typeface="굴림"/>
                        </a:rPr>
                        <a:t>Average of pSNR scor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  <a:ea typeface="굴림"/>
                        </a:rPr>
                        <a:t>48.25d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  <a:ea typeface="굴림"/>
                        </a:rPr>
                        <a:t>46.2d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104648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ill Sans"/>
                <a:ea typeface="굴림"/>
              </a:rPr>
              <a:t>Experiment 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굴림"/>
              </a:rPr>
              <a:t>(cont’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98400" y="1510920"/>
            <a:ext cx="11607840" cy="824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굴림"/>
              </a:rPr>
              <a:t>Example 2: bending mo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spcBef>
                <a:spcPts val="15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굴림"/>
              </a:rPr>
              <a:t>Results : movie fil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5" name="Rectangle 6"/>
          <p:cNvSpPr/>
          <p:nvPr/>
        </p:nvSpPr>
        <p:spPr>
          <a:xfrm>
            <a:off x="191880" y="6121440"/>
            <a:ext cx="3808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  <a:ea typeface="굴림"/>
              </a:rPr>
              <a:t>Motion of the ground truth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4843440" y="6095880"/>
            <a:ext cx="2870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  <a:ea typeface="굴림"/>
              </a:rPr>
              <a:t>Computed motion by our method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7" name="Rectangle 8"/>
          <p:cNvSpPr/>
          <p:nvPr/>
        </p:nvSpPr>
        <p:spPr>
          <a:xfrm>
            <a:off x="9004320" y="6197760"/>
            <a:ext cx="287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  <a:ea typeface="굴림"/>
              </a:rPr>
              <a:t>Computed motion by our LDDMM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38" name="bending_gt" descr=""/>
          <p:cNvPicPr/>
          <p:nvPr/>
        </p:nvPicPr>
        <p:blipFill>
          <a:blip r:embed="rId1"/>
          <a:stretch/>
        </p:blipFill>
        <p:spPr>
          <a:xfrm>
            <a:off x="345960" y="3392640"/>
            <a:ext cx="3500640" cy="2624040"/>
          </a:xfrm>
          <a:prstGeom prst="rect">
            <a:avLst/>
          </a:prstGeom>
          <a:ln w="0">
            <a:noFill/>
          </a:ln>
        </p:spPr>
      </p:pic>
      <p:pic>
        <p:nvPicPr>
          <p:cNvPr id="839" name="bending_dense" descr=""/>
          <p:cNvPicPr/>
          <p:nvPr/>
        </p:nvPicPr>
        <p:blipFill>
          <a:blip r:embed="rId2"/>
          <a:stretch/>
        </p:blipFill>
        <p:spPr>
          <a:xfrm>
            <a:off x="4557600" y="336852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840" name="bending_lddmm" descr=""/>
          <p:cNvPicPr/>
          <p:nvPr/>
        </p:nvPicPr>
        <p:blipFill>
          <a:blip r:embed="rId3"/>
          <a:stretch/>
        </p:blipFill>
        <p:spPr>
          <a:xfrm>
            <a:off x="8659800" y="3346560"/>
            <a:ext cx="3559320" cy="266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8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838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838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8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839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839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8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840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840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" dur="1" fill="hold"/>
                                        <p:tgtEl>
                                          <p:spTgt spid="8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/>
          </p:nvPr>
        </p:nvSpPr>
        <p:spPr>
          <a:xfrm>
            <a:off x="990360" y="1650960"/>
            <a:ext cx="10464840" cy="745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711000" indent="-456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굴림"/>
              </a:rPr>
              <a:t>Example 3: dancing woma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066680" indent="-456840">
              <a:spcBef>
                <a:spcPts val="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굴림"/>
              </a:rPr>
              <a:t>The original video footage is provided in .mov format.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066680" indent="-456840">
              <a:spcBef>
                <a:spcPts val="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굴림"/>
              </a:rPr>
              <a:t>The footage is sampled in 30 fps, and it produces 29 image frames.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066680" indent="-456840">
              <a:spcBef>
                <a:spcPts val="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굴림"/>
              </a:rPr>
              <a:t>All frames are dropped out remaining five intermediate frames including the first and last ones.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06668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06668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06668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06668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06668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066680" indent="-456840">
              <a:spcBef>
                <a:spcPts val="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굴림"/>
              </a:rPr>
              <a:t>Missing frames are computed with our framework as done in the previous example.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2" name="Rectangle 2"/>
          <p:cNvSpPr/>
          <p:nvPr/>
        </p:nvSpPr>
        <p:spPr>
          <a:xfrm>
            <a:off x="1270080" y="349200"/>
            <a:ext cx="104774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ill Sans"/>
                <a:ea typeface="굴림"/>
              </a:rPr>
              <a:t>Experiment 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굴림"/>
              </a:rPr>
              <a:t>(cont’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43" name="Picture 3" descr=""/>
          <p:cNvPicPr/>
          <p:nvPr/>
        </p:nvPicPr>
        <p:blipFill>
          <a:blip r:embed="rId1"/>
          <a:stretch/>
        </p:blipFill>
        <p:spPr>
          <a:xfrm>
            <a:off x="1892160" y="5092560"/>
            <a:ext cx="9220320" cy="18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69720" y="291600"/>
            <a:ext cx="10464840" cy="115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ill Sans"/>
                <a:ea typeface="굴림"/>
              </a:rPr>
              <a:t>Experiment 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굴림"/>
              </a:rPr>
              <a:t>(cont’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98400" y="1346040"/>
            <a:ext cx="11607840" cy="675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굴림"/>
              </a:rPr>
              <a:t>Example 3: dancing woma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spcBef>
                <a:spcPts val="11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굴림"/>
              </a:rPr>
              <a:t>There are five diffeomorphic paths to be estimated.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spcBef>
                <a:spcPts val="11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굴림"/>
              </a:rPr>
              <a:t>Results : estimated missing frames ,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46" name="Picture 3" descr=""/>
          <p:cNvPicPr/>
          <p:nvPr/>
        </p:nvPicPr>
        <p:blipFill>
          <a:blip r:embed="rId1"/>
          <a:stretch/>
        </p:blipFill>
        <p:spPr>
          <a:xfrm>
            <a:off x="201600" y="3174840"/>
            <a:ext cx="9299520" cy="308628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4" descr=""/>
          <p:cNvPicPr/>
          <p:nvPr/>
        </p:nvPicPr>
        <p:blipFill>
          <a:blip r:embed="rId2"/>
          <a:stretch/>
        </p:blipFill>
        <p:spPr>
          <a:xfrm>
            <a:off x="195120" y="6413400"/>
            <a:ext cx="9298080" cy="3086280"/>
          </a:xfrm>
          <a:prstGeom prst="rect">
            <a:avLst/>
          </a:prstGeom>
          <a:ln w="0">
            <a:noFill/>
          </a:ln>
        </p:spPr>
      </p:pic>
      <p:sp>
        <p:nvSpPr>
          <p:cNvPr id="848" name="AutoShape 5"/>
          <p:cNvSpPr/>
          <p:nvPr/>
        </p:nvSpPr>
        <p:spPr>
          <a:xfrm>
            <a:off x="1181160" y="6515280"/>
            <a:ext cx="7226280" cy="888840"/>
          </a:xfrm>
          <a:prstGeom prst="roundRect">
            <a:avLst>
              <a:gd name="adj" fmla="val 21421"/>
            </a:avLst>
          </a:prstGeom>
          <a:noFill/>
          <a:ln w="25560">
            <a:solidFill>
              <a:srgbClr val="bb12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9" name="AutoShape 6"/>
          <p:cNvSpPr/>
          <p:nvPr/>
        </p:nvSpPr>
        <p:spPr>
          <a:xfrm>
            <a:off x="254160" y="7581960"/>
            <a:ext cx="4114800" cy="927000"/>
          </a:xfrm>
          <a:prstGeom prst="roundRect">
            <a:avLst>
              <a:gd name="adj" fmla="val 20546"/>
            </a:avLst>
          </a:prstGeom>
          <a:noFill/>
          <a:ln w="25560">
            <a:solidFill>
              <a:srgbClr val="bb12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0" name="AutoShape 7"/>
          <p:cNvSpPr/>
          <p:nvPr/>
        </p:nvSpPr>
        <p:spPr>
          <a:xfrm>
            <a:off x="5384880" y="7581960"/>
            <a:ext cx="4114800" cy="927000"/>
          </a:xfrm>
          <a:prstGeom prst="roundRect">
            <a:avLst>
              <a:gd name="adj" fmla="val 20546"/>
            </a:avLst>
          </a:prstGeom>
          <a:noFill/>
          <a:ln w="25560">
            <a:solidFill>
              <a:srgbClr val="bb12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1" name="AutoShape 8"/>
          <p:cNvSpPr/>
          <p:nvPr/>
        </p:nvSpPr>
        <p:spPr>
          <a:xfrm>
            <a:off x="1333440" y="8597880"/>
            <a:ext cx="7226280" cy="889200"/>
          </a:xfrm>
          <a:prstGeom prst="roundRect">
            <a:avLst>
              <a:gd name="adj" fmla="val 21421"/>
            </a:avLst>
          </a:prstGeom>
          <a:noFill/>
          <a:ln w="25560">
            <a:solidFill>
              <a:srgbClr val="bb12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2" name="AutoShape 9"/>
          <p:cNvSpPr/>
          <p:nvPr/>
        </p:nvSpPr>
        <p:spPr>
          <a:xfrm>
            <a:off x="1181160" y="3276720"/>
            <a:ext cx="7226280" cy="888840"/>
          </a:xfrm>
          <a:prstGeom prst="roundRect">
            <a:avLst>
              <a:gd name="adj" fmla="val 21421"/>
            </a:avLst>
          </a:prstGeom>
          <a:noFill/>
          <a:ln w="25560">
            <a:solidFill>
              <a:srgbClr val="2021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3" name="AutoShape 10"/>
          <p:cNvSpPr/>
          <p:nvPr/>
        </p:nvSpPr>
        <p:spPr>
          <a:xfrm>
            <a:off x="5372280" y="4305240"/>
            <a:ext cx="4114800" cy="927000"/>
          </a:xfrm>
          <a:prstGeom prst="roundRect">
            <a:avLst>
              <a:gd name="adj" fmla="val 20546"/>
            </a:avLst>
          </a:prstGeom>
          <a:noFill/>
          <a:ln w="25560">
            <a:solidFill>
              <a:srgbClr val="2021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4" name="AutoShape 11"/>
          <p:cNvSpPr/>
          <p:nvPr/>
        </p:nvSpPr>
        <p:spPr>
          <a:xfrm>
            <a:off x="254160" y="4305240"/>
            <a:ext cx="4114800" cy="927000"/>
          </a:xfrm>
          <a:prstGeom prst="roundRect">
            <a:avLst>
              <a:gd name="adj" fmla="val 20546"/>
            </a:avLst>
          </a:prstGeom>
          <a:noFill/>
          <a:ln w="25560">
            <a:solidFill>
              <a:srgbClr val="2021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5" name="AutoShape 12"/>
          <p:cNvSpPr/>
          <p:nvPr/>
        </p:nvSpPr>
        <p:spPr>
          <a:xfrm>
            <a:off x="1231920" y="5359320"/>
            <a:ext cx="7226280" cy="889200"/>
          </a:xfrm>
          <a:prstGeom prst="roundRect">
            <a:avLst>
              <a:gd name="adj" fmla="val 21421"/>
            </a:avLst>
          </a:prstGeom>
          <a:noFill/>
          <a:ln w="25560">
            <a:solidFill>
              <a:srgbClr val="2021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56" name="Group 15"/>
          <p:cNvGrpSpPr/>
          <p:nvPr/>
        </p:nvGrpSpPr>
        <p:grpSpPr>
          <a:xfrm>
            <a:off x="9756360" y="4432320"/>
            <a:ext cx="2987640" cy="685800"/>
            <a:chOff x="9756360" y="4432320"/>
            <a:chExt cx="2987640" cy="685800"/>
          </a:xfrm>
        </p:grpSpPr>
        <p:sp>
          <p:nvSpPr>
            <p:cNvPr id="857" name="AutoShape 13"/>
            <p:cNvSpPr/>
            <p:nvPr/>
          </p:nvSpPr>
          <p:spPr>
            <a:xfrm>
              <a:off x="9867960" y="4432320"/>
              <a:ext cx="2768400" cy="685800"/>
            </a:xfrm>
            <a:prstGeom prst="roundRect">
              <a:avLst>
                <a:gd name="adj" fmla="val 27778"/>
              </a:avLst>
            </a:prstGeom>
            <a:noFill/>
            <a:ln w="25560">
              <a:solidFill>
                <a:srgbClr val="2021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58" name="Rectangle 14"/>
            <p:cNvSpPr/>
            <p:nvPr/>
          </p:nvSpPr>
          <p:spPr>
            <a:xfrm>
              <a:off x="9756360" y="4586040"/>
              <a:ext cx="2987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굴림"/>
                </a:rPr>
                <a:t>Ground truth frame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59" name="Group 18"/>
          <p:cNvGrpSpPr/>
          <p:nvPr/>
        </p:nvGrpSpPr>
        <p:grpSpPr>
          <a:xfrm>
            <a:off x="9867960" y="7709040"/>
            <a:ext cx="2768400" cy="685800"/>
            <a:chOff x="9867960" y="7709040"/>
            <a:chExt cx="2768400" cy="685800"/>
          </a:xfrm>
        </p:grpSpPr>
        <p:sp>
          <p:nvSpPr>
            <p:cNvPr id="860" name="AutoShape 16"/>
            <p:cNvSpPr/>
            <p:nvPr/>
          </p:nvSpPr>
          <p:spPr>
            <a:xfrm>
              <a:off x="9867960" y="7709040"/>
              <a:ext cx="2768400" cy="685800"/>
            </a:xfrm>
            <a:prstGeom prst="roundRect">
              <a:avLst>
                <a:gd name="adj" fmla="val 27778"/>
              </a:avLst>
            </a:prstGeom>
            <a:noFill/>
            <a:ln w="25560">
              <a:solidFill>
                <a:srgbClr val="bb12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1" name="Rectangle 17"/>
            <p:cNvSpPr/>
            <p:nvPr/>
          </p:nvSpPr>
          <p:spPr>
            <a:xfrm>
              <a:off x="9934560" y="7862760"/>
              <a:ext cx="2593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굴림"/>
                </a:rPr>
                <a:t>Computed frame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62" name="Rectangle 19"/>
          <p:cNvSpPr/>
          <p:nvPr/>
        </p:nvSpPr>
        <p:spPr>
          <a:xfrm>
            <a:off x="9588600" y="5334120"/>
            <a:ext cx="3327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굴림"/>
              </a:rPr>
              <a:t>Movie file: dancing_org.mov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3" name="Rectangle 20"/>
          <p:cNvSpPr/>
          <p:nvPr/>
        </p:nvSpPr>
        <p:spPr>
          <a:xfrm>
            <a:off x="9588600" y="8610480"/>
            <a:ext cx="33274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굴림"/>
              </a:rPr>
              <a:t>Movie file: dancing_dense.mov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104648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ill Sans"/>
                <a:ea typeface="굴림"/>
              </a:rPr>
              <a:t>Experiment 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굴림"/>
              </a:rPr>
              <a:t>(cont’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98400" y="1510920"/>
            <a:ext cx="11607840" cy="824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굴림"/>
              </a:rPr>
              <a:t>Example 3: dancing woma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spcBef>
                <a:spcPts val="15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굴림"/>
              </a:rPr>
              <a:t>Results : pSNR scor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778040" indent="-571680">
              <a:spcBef>
                <a:spcPts val="15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굴림"/>
              </a:rPr>
              <a:t>No LDDMM score : Despite enormous amount of parameter tuning, algorithm failed to converge.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6" name="Line 3"/>
          <p:cNvSpPr/>
          <p:nvPr/>
        </p:nvSpPr>
        <p:spPr>
          <a:xfrm flipV="1">
            <a:off x="10565640" y="5256360"/>
            <a:ext cx="1079640" cy="1440"/>
          </a:xfrm>
          <a:prstGeom prst="line">
            <a:avLst/>
          </a:prstGeom>
          <a:ln w="38160">
            <a:solidFill>
              <a:srgbClr val="ff20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7" name="Rectangle 4"/>
          <p:cNvSpPr/>
          <p:nvPr/>
        </p:nvSpPr>
        <p:spPr>
          <a:xfrm>
            <a:off x="8665560" y="5076360"/>
            <a:ext cx="1843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  <a:ea typeface="굴림"/>
              </a:rPr>
              <a:t>Our method :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68" name=""/>
          <p:cNvGraphicFramePr/>
          <p:nvPr/>
        </p:nvGraphicFramePr>
        <p:xfrm>
          <a:off x="8292960" y="6413400"/>
          <a:ext cx="4203720" cy="1685880"/>
        </p:xfrm>
        <a:graphic>
          <a:graphicData uri="http://schemas.openxmlformats.org/drawingml/2006/table">
            <a:tbl>
              <a:tblPr/>
              <a:tblGrid>
                <a:gridCol w="1446480"/>
                <a:gridCol w="1595160"/>
                <a:gridCol w="1162080"/>
              </a:tblGrid>
              <a:tr h="7160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  <a:ea typeface="굴림"/>
                        </a:rPr>
                        <a:t>Our metho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  <a:ea typeface="굴림"/>
                        </a:rPr>
                        <a:t>LDD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Gill Sans"/>
                          <a:ea typeface="굴림"/>
                        </a:rPr>
                        <a:t>Average of pSNR scor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  <a:ea typeface="굴림"/>
                        </a:rPr>
                        <a:t>45.94d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9" name="Picture 29" descr=""/>
          <p:cNvPicPr/>
          <p:nvPr/>
        </p:nvPicPr>
        <p:blipFill>
          <a:blip r:embed="rId1"/>
          <a:stretch/>
        </p:blipFill>
        <p:spPr>
          <a:xfrm>
            <a:off x="698400" y="3809880"/>
            <a:ext cx="711216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104648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ill Sans"/>
                <a:ea typeface="굴림"/>
              </a:rPr>
              <a:t>Experiment 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굴림"/>
              </a:rPr>
              <a:t>(cont’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98400" y="1510920"/>
            <a:ext cx="11607840" cy="824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굴림"/>
              </a:rPr>
              <a:t>Example 3: dancing woma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spcBef>
                <a:spcPts val="15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굴림"/>
              </a:rPr>
              <a:t>Results : movie files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2" name="Rectangle 5"/>
          <p:cNvSpPr/>
          <p:nvPr/>
        </p:nvSpPr>
        <p:spPr>
          <a:xfrm>
            <a:off x="1995480" y="6095880"/>
            <a:ext cx="3808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  <a:ea typeface="굴림"/>
              </a:rPr>
              <a:t>Motion of the ground truth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3" name="Rectangle 6"/>
          <p:cNvSpPr/>
          <p:nvPr/>
        </p:nvSpPr>
        <p:spPr>
          <a:xfrm>
            <a:off x="7472520" y="6032520"/>
            <a:ext cx="286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  <a:ea typeface="굴림"/>
              </a:rPr>
              <a:t>Computed motion by our method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74" name="dancing_org" descr=""/>
          <p:cNvPicPr/>
          <p:nvPr/>
        </p:nvPicPr>
        <p:blipFill>
          <a:blip r:embed="rId1"/>
          <a:stretch/>
        </p:blipFill>
        <p:spPr>
          <a:xfrm>
            <a:off x="2004840" y="3206880"/>
            <a:ext cx="3765600" cy="2825640"/>
          </a:xfrm>
          <a:prstGeom prst="rect">
            <a:avLst/>
          </a:prstGeom>
          <a:ln w="0">
            <a:noFill/>
          </a:ln>
        </p:spPr>
      </p:pic>
      <p:pic>
        <p:nvPicPr>
          <p:cNvPr id="875" name="dancing_dense" descr=""/>
          <p:cNvPicPr/>
          <p:nvPr/>
        </p:nvPicPr>
        <p:blipFill>
          <a:blip r:embed="rId2"/>
          <a:stretch/>
        </p:blipFill>
        <p:spPr>
          <a:xfrm>
            <a:off x="7077240" y="3206880"/>
            <a:ext cx="3744720" cy="28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874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874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3" dur="1" fill="hold"/>
                                        <p:tgtEl>
                                          <p:spTgt spid="8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87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87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8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10464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ill Sans"/>
                <a:ea typeface="굴림"/>
              </a:rPr>
              <a:t>Discussion</a:t>
            </a:r>
            <a:endParaRPr b="0" lang="en-US" sz="6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104480" y="1434600"/>
            <a:ext cx="10464840" cy="8318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870840" indent="-5598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굴림"/>
              </a:rPr>
              <a:t>A novel framework is introduced for the interpolation of two given diffeomorphisms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870840" indent="-559800">
              <a:spcBef>
                <a:spcPts val="15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굴림"/>
              </a:rPr>
              <a:t>It provides more general approach than LDDMM-like frameworks by separating the registration stage and the interpolation stage of diffeomorphisms.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870840" indent="-559800">
              <a:spcBef>
                <a:spcPts val="15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굴림"/>
              </a:rPr>
              <a:t>While it is hard to find out the set of parameters for convergence in LDDMM, the novel framework is less sensitive to parameters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306440" indent="-559800">
              <a:spcBef>
                <a:spcPts val="15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굴림"/>
              </a:rPr>
              <a:t>In our algorithm,                 and            work well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306440" indent="-559800">
              <a:spcBef>
                <a:spcPts val="15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굴림"/>
              </a:rPr>
              <a:t>In the bending motion example, more reference images should be introduced between the first and 17th frame to make LDDMM converge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306440" indent="-559800">
              <a:spcBef>
                <a:spcPts val="15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굴림"/>
              </a:rPr>
              <a:t>In the dancing woman example, parameter tuning failed to make LDDMM converge.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78" name="Picture 3" descr=""/>
          <p:cNvPicPr/>
          <p:nvPr/>
        </p:nvPicPr>
        <p:blipFill>
          <a:blip r:embed="rId1"/>
          <a:stretch/>
        </p:blipFill>
        <p:spPr>
          <a:xfrm>
            <a:off x="5689440" y="6032520"/>
            <a:ext cx="1533600" cy="35712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4" descr=""/>
          <p:cNvPicPr/>
          <p:nvPr/>
        </p:nvPicPr>
        <p:blipFill>
          <a:blip r:embed="rId2"/>
          <a:stretch/>
        </p:blipFill>
        <p:spPr>
          <a:xfrm>
            <a:off x="8086680" y="6100920"/>
            <a:ext cx="1090800" cy="31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1663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ill Sans"/>
                <a:ea typeface="굴림"/>
              </a:rPr>
              <a:t>Discussion</a:t>
            </a:r>
            <a:endParaRPr b="0" lang="en-US" sz="6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1269720" y="2069640"/>
            <a:ext cx="10464840" cy="7683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13334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굴림"/>
              </a:rPr>
              <a:t>In the experiments, </a:t>
            </a:r>
            <a:r>
              <a:rPr b="0" lang="en-US" sz="3200" spc="-1" strike="noStrike">
                <a:solidFill>
                  <a:srgbClr val="000001"/>
                </a:solidFill>
                <a:latin typeface="Gill Sans"/>
                <a:ea typeface="굴림"/>
              </a:rPr>
              <a:t>diffeomorphisms along the interpolated path yield locally shape-preserving deformations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spcBef>
                <a:spcPts val="15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굴림"/>
              </a:rPr>
              <a:t>In this paper, only 2D formulation is considered, however, it can be easily extended to 3D.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굴림"/>
              </a:rPr>
              <a:t>This framework is applicable to motion analysis, video analysis, statistical study of longitudinal dataset and etc.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69720" y="38160"/>
            <a:ext cx="10464840" cy="203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ill Sans"/>
                <a:ea typeface="굴림"/>
              </a:rPr>
              <a:t>Motivation</a:t>
            </a:r>
            <a:endParaRPr b="0" lang="en-US" sz="6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26640" y="2069640"/>
            <a:ext cx="11138040" cy="7683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Gill Sans"/>
                <a:ea typeface="굴림"/>
              </a:rPr>
              <a:t>To look for a general framework for longitudinal study in computer vision such as evolution scenarios or shape transformations over time which require two different types of optimization: the </a:t>
            </a:r>
            <a:r>
              <a:rPr b="0" lang="en-US" sz="4100" spc="-1" strike="noStrike">
                <a:solidFill>
                  <a:srgbClr val="000e62"/>
                </a:solidFill>
                <a:latin typeface="Gill Sans"/>
                <a:ea typeface="굴림"/>
              </a:rPr>
              <a:t>registration of images</a:t>
            </a:r>
            <a:r>
              <a:rPr b="0" lang="en-US" sz="4100" spc="-1" strike="noStrike">
                <a:solidFill>
                  <a:srgbClr val="000000"/>
                </a:solidFill>
                <a:latin typeface="Gill Sans"/>
                <a:ea typeface="굴림"/>
              </a:rPr>
              <a:t> and the </a:t>
            </a:r>
            <a:r>
              <a:rPr b="0" lang="en-US" sz="4100" spc="-1" strike="noStrike">
                <a:solidFill>
                  <a:srgbClr val="000e62"/>
                </a:solidFill>
                <a:latin typeface="Gill Sans"/>
                <a:ea typeface="굴림"/>
              </a:rPr>
              <a:t>interpolation of diffeomorphisms</a:t>
            </a:r>
            <a:r>
              <a:rPr b="0" lang="en-US" sz="4100" spc="-1" strike="noStrike">
                <a:solidFill>
                  <a:srgbClr val="000000"/>
                </a:solidFill>
                <a:latin typeface="Gill Sans"/>
                <a:ea typeface="굴림"/>
              </a:rPr>
              <a:t>.</a:t>
            </a:r>
            <a:endParaRPr b="0" lang="en-US" sz="41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Gill Sans"/>
                <a:ea typeface="굴림"/>
              </a:rPr>
              <a:t>Popular previous frameworks : LDDMM-like frameworks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굴림"/>
              </a:rPr>
              <a:t>[1 - 6].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굴림"/>
              </a:rPr>
              <a:t>These frameworks perform the two optimization simultaneously.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269720" y="139320"/>
            <a:ext cx="10464840" cy="104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Gill Sans"/>
                <a:ea typeface="굴림"/>
              </a:rPr>
              <a:t>References</a:t>
            </a:r>
            <a:endParaRPr b="0" lang="en-US" sz="6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269720" y="622440"/>
            <a:ext cx="10464840" cy="9131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77940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marL="779400" indent="-53100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  <a:ea typeface="굴림"/>
              </a:rPr>
              <a:t>[1] M. F. Beg, M. I. Miller, and A. Trouv\'{e} and L. Younes, Computing large deformation metric mappings vis geodesic flows of diffeomorphisms, IJCV 61 (2), 139-157, (2005)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marL="779400" indent="-53100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  <a:ea typeface="굴림"/>
              </a:rPr>
              <a:t>[2] M. I. Miller, A. Trouv\'{e} and L. Younes, Geodesic shooting for computational anatomy, J. Math. Imaging Vis., 24 (2), 209-228, (2006)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marL="779400" indent="-53100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  <a:ea typeface="굴림"/>
              </a:rPr>
              <a:t>[3] L. Younes, A. Qiu, R. L. Winslow and M. I. Miller, Transport of relational structures in groups of diffeomorphisms, J. Math. Imaging Vis., 32 (1), 41-56, (2008)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marL="779400" indent="-53100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  <a:ea typeface="굴림"/>
              </a:rPr>
              <a:t>[4] L. Younes, F. Arrate, and M. I. Miller, Evolutions equations in computational anatomy, Neuroimages 45, S40-S50, (Mar 2009)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marL="779400" indent="-53100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  <a:ea typeface="굴림"/>
              </a:rPr>
              <a:t>[5] S. Sommer, M, Nielsen, F. Lauze, and X, Pennec, A multi-scale kernel bundle for LDDMM: towards sparse deformation description across space and scales,  IPMI , 624-635, (2011)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marL="779400" indent="-53100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  <a:ea typeface="굴림"/>
              </a:rPr>
              <a:t>[6] S. Sommer, F. Lauze, M, Nielsen, and X, Pennec, Kernel Bundle EPDiff: Evolution Equations for Multi-scale Diffeomorphic Image Registration, SSVM, 677-688, (2011)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69720" y="139320"/>
            <a:ext cx="10464840" cy="104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Gill Sans"/>
                <a:ea typeface="굴림"/>
              </a:rPr>
              <a:t>References</a:t>
            </a:r>
            <a:endParaRPr b="0" lang="en-US" sz="6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269720" y="1968480"/>
            <a:ext cx="1046484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  <a:ea typeface="굴림"/>
              </a:rPr>
              <a:t>[7] B. Khesin, J. Lenells, G. Misiolek and S. C. Preston, Geometry of diffeomorphism groups, complete integrability and geometric statistics, arXiv:1105.0643, 41pp (2011)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ill Sans"/>
                <a:ea typeface="굴림"/>
              </a:rPr>
              <a:t>Motivation </a:t>
            </a:r>
            <a:r>
              <a:rPr b="0" lang="en-US" sz="4700" spc="-1" strike="noStrike">
                <a:solidFill>
                  <a:srgbClr val="000000"/>
                </a:solidFill>
                <a:latin typeface="Gill Sans"/>
                <a:ea typeface="굴림"/>
              </a:rPr>
              <a:t>(cont’)</a:t>
            </a:r>
            <a:endParaRPr b="0" lang="en-US" sz="4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29760" y="1333080"/>
            <a:ext cx="12331800" cy="803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lvl="1" marL="1293120" indent="-5540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"/>
                <a:ea typeface="굴림"/>
              </a:rPr>
              <a:t>Issues with LDDMM-like frameworks :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  <a:p>
            <a:pPr lvl="2" marL="1724400" indent="-554400">
              <a:spcBef>
                <a:spcPts val="15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"/>
                <a:ea typeface="굴림"/>
              </a:rPr>
              <a:t>Formulations using the Sobolev metric on velocity fields may cause undesirable geometric distortion in the space of diffeomorphisms.  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  <a:p>
            <a:pPr lvl="2" marL="1724400" indent="-554400">
              <a:spcBef>
                <a:spcPts val="15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"/>
                <a:ea typeface="굴림"/>
              </a:rPr>
              <a:t>There is no guarantee that these formulations can give best correspondences regardless of the modality of images.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  <a:p>
            <a:pPr lvl="3" marL="2155680" indent="-554400">
              <a:spcBef>
                <a:spcPts val="15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"/>
                <a:ea typeface="굴림"/>
              </a:rPr>
              <a:t>Each modality requires a uniquely formulated registration framework.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  <a:p>
            <a:pPr lvl="2" marL="1724400" indent="-554400">
              <a:spcBef>
                <a:spcPts val="15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"/>
                <a:ea typeface="굴림"/>
              </a:rPr>
              <a:t>Tuning the set of parameters for a convergent result is heavily data dependent, is cumbersome and tedious. 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  <a:p>
            <a:pPr lvl="1" marL="1293120" indent="-554040">
              <a:spcBef>
                <a:spcPts val="1500"/>
              </a:spcBef>
              <a:buClr>
                <a:srgbClr val="000e62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e62"/>
                </a:solidFill>
                <a:latin typeface="Gill Sans"/>
                <a:ea typeface="굴림"/>
              </a:rPr>
              <a:t>Alternative way is to separate registration and interpolation stages to maximize the efficiencies of the two optimizations. 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ill Sans"/>
                <a:ea typeface="굴림"/>
              </a:rPr>
              <a:t>Motivation </a:t>
            </a:r>
            <a:r>
              <a:rPr b="0" lang="en-US" sz="4700" spc="-1" strike="noStrike">
                <a:solidFill>
                  <a:srgbClr val="000000"/>
                </a:solidFill>
                <a:latin typeface="Gill Sans"/>
                <a:ea typeface="굴림"/>
              </a:rPr>
              <a:t>(cont’)</a:t>
            </a:r>
            <a:endParaRPr b="0" lang="en-US" sz="4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29760" y="1486080"/>
            <a:ext cx="12331800" cy="755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lvl="2" marL="1778040" indent="-571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"/>
                <a:ea typeface="굴림"/>
              </a:rPr>
              <a:t>While there are plenty of registration frameworks for various modalities, frameworks for the interpolation of diffemorphisms are few and far between. 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  <a:p>
            <a:pPr lvl="2" marL="1778040" indent="-571680">
              <a:spcBef>
                <a:spcPts val="25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"/>
                <a:ea typeface="굴림"/>
              </a:rPr>
              <a:t>Due to the infinite dimensionality of the space of diffeomorphisms, it is hard to get a geodesic path on this space through direct computation. 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  <a:p>
            <a:pPr lvl="2" marL="1778040" indent="-571680">
              <a:spcBef>
                <a:spcPts val="2500"/>
              </a:spcBef>
              <a:buClr>
                <a:srgbClr val="8d054a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d054a"/>
                </a:solidFill>
                <a:latin typeface="Gill Sans"/>
                <a:ea typeface="굴림"/>
              </a:rPr>
              <a:t>All these difficulties may be overcome by projecting diffeomorphisms onto a known space which has the closed form for the geodesic. 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222640" y="0"/>
            <a:ext cx="854712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Gill Sans"/>
                <a:ea typeface="굴림"/>
              </a:rPr>
              <a:t>A novel framework for diffeomorphic paths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01240" y="2499840"/>
            <a:ext cx="10920600" cy="6985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굴림"/>
              </a:rPr>
              <a:t>Step 1 : mapping a given pair of diffeomorphisms to the space of densities and estimating its geodesic on the space. A recent theorem in Mathematics tells us that this can be don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굴림"/>
              </a:rPr>
              <a:t>[7]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굴림"/>
              </a:rPr>
              <a:t>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spcBef>
                <a:spcPts val="36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굴림"/>
              </a:rPr>
              <a:t>Sept 2 : lifting the geodesic evaluated in the space of densities back to the space of diffeomorphism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813960" y="1707840"/>
            <a:ext cx="10464840" cy="708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굴림"/>
              </a:rPr>
              <a:t>Notation: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38" name="Group 4"/>
          <p:cNvGrpSpPr/>
          <p:nvPr/>
        </p:nvGrpSpPr>
        <p:grpSpPr>
          <a:xfrm>
            <a:off x="2097000" y="2463840"/>
            <a:ext cx="8292960" cy="541080"/>
            <a:chOff x="2097000" y="2463840"/>
            <a:chExt cx="8292960" cy="541080"/>
          </a:xfrm>
        </p:grpSpPr>
        <p:pic>
          <p:nvPicPr>
            <p:cNvPr id="539" name="Picture 2" descr=""/>
            <p:cNvPicPr/>
            <p:nvPr/>
          </p:nvPicPr>
          <p:blipFill>
            <a:blip r:embed="rId1"/>
            <a:stretch/>
          </p:blipFill>
          <p:spPr>
            <a:xfrm>
              <a:off x="2097000" y="2589480"/>
              <a:ext cx="478080" cy="31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Rectangle 3"/>
            <p:cNvSpPr/>
            <p:nvPr/>
          </p:nvSpPr>
          <p:spPr>
            <a:xfrm>
              <a:off x="2608920" y="2463840"/>
              <a:ext cx="7781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"/>
                  <a:ea typeface="굴림"/>
                </a:rPr>
                <a:t>: a compact n-dimensional Riemannian manifold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41" name="Group 8"/>
          <p:cNvGrpSpPr/>
          <p:nvPr/>
        </p:nvGrpSpPr>
        <p:grpSpPr>
          <a:xfrm>
            <a:off x="1749600" y="3005280"/>
            <a:ext cx="10443960" cy="428400"/>
            <a:chOff x="1749600" y="3005280"/>
            <a:chExt cx="10443960" cy="428400"/>
          </a:xfrm>
        </p:grpSpPr>
        <p:pic>
          <p:nvPicPr>
            <p:cNvPr id="542" name="Picture 5" descr=""/>
            <p:cNvPicPr/>
            <p:nvPr/>
          </p:nvPicPr>
          <p:blipFill>
            <a:blip r:embed="rId2"/>
            <a:stretch/>
          </p:blipFill>
          <p:spPr>
            <a:xfrm>
              <a:off x="1749600" y="3076560"/>
              <a:ext cx="14335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Rectangle 6"/>
            <p:cNvSpPr/>
            <p:nvPr/>
          </p:nvSpPr>
          <p:spPr>
            <a:xfrm>
              <a:off x="3289320" y="3005280"/>
              <a:ext cx="836928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"/>
                  <a:ea typeface="굴림"/>
                </a:rPr>
                <a:t>: the infinite-dimensional group of diffeomorphisms of 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544" name="Picture 7" descr=""/>
            <p:cNvPicPr/>
            <p:nvPr/>
          </p:nvPicPr>
          <p:blipFill>
            <a:blip r:embed="rId3"/>
            <a:stretch/>
          </p:blipFill>
          <p:spPr>
            <a:xfrm>
              <a:off x="11723760" y="3027600"/>
              <a:ext cx="469800" cy="317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5" name="Group 11"/>
          <p:cNvGrpSpPr/>
          <p:nvPr/>
        </p:nvGrpSpPr>
        <p:grpSpPr>
          <a:xfrm>
            <a:off x="1768320" y="3605040"/>
            <a:ext cx="7775640" cy="787320"/>
            <a:chOff x="1768320" y="3605040"/>
            <a:chExt cx="7775640" cy="787320"/>
          </a:xfrm>
        </p:grpSpPr>
        <p:pic>
          <p:nvPicPr>
            <p:cNvPr id="546" name="Picture 9" descr=""/>
            <p:cNvPicPr/>
            <p:nvPr/>
          </p:nvPicPr>
          <p:blipFill>
            <a:blip r:embed="rId4"/>
            <a:stretch/>
          </p:blipFill>
          <p:spPr>
            <a:xfrm>
              <a:off x="1768320" y="3681360"/>
              <a:ext cx="163980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Rectangle 10"/>
            <p:cNvSpPr/>
            <p:nvPr/>
          </p:nvSpPr>
          <p:spPr>
            <a:xfrm>
              <a:off x="3079440" y="3605040"/>
              <a:ext cx="64645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5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Gill Sans"/>
                  <a:ea typeface="굴림"/>
                </a:rPr>
                <a:t>: its infinite-dimensional subgroup of volume-preserving diffeomorphisms</a:t>
              </a:r>
              <a:endParaRPr b="0" lang="en-US" sz="27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48" name="Group 14"/>
          <p:cNvGrpSpPr/>
          <p:nvPr/>
        </p:nvGrpSpPr>
        <p:grpSpPr>
          <a:xfrm>
            <a:off x="1700280" y="4656240"/>
            <a:ext cx="10664280" cy="761760"/>
            <a:chOff x="1700280" y="4656240"/>
            <a:chExt cx="10664280" cy="761760"/>
          </a:xfrm>
        </p:grpSpPr>
        <p:pic>
          <p:nvPicPr>
            <p:cNvPr id="549" name="Picture 12" descr=""/>
            <p:cNvPicPr/>
            <p:nvPr/>
          </p:nvPicPr>
          <p:blipFill>
            <a:blip r:embed="rId5"/>
            <a:stretch/>
          </p:blipFill>
          <p:spPr>
            <a:xfrm>
              <a:off x="1700280" y="4726080"/>
              <a:ext cx="3411000" cy="3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Rectangle 13"/>
            <p:cNvSpPr/>
            <p:nvPr/>
          </p:nvSpPr>
          <p:spPr>
            <a:xfrm>
              <a:off x="4643280" y="4656240"/>
              <a:ext cx="77212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6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Gill Sans"/>
                  <a:ea typeface="굴림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Gill Sans"/>
                  <a:ea typeface="굴림"/>
                </a:rPr>
                <a:t>: its quotient space by the subgroup of volume-preserving diffeomorphisms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51" name="Group 17"/>
          <p:cNvGrpSpPr/>
          <p:nvPr/>
        </p:nvGrpSpPr>
        <p:grpSpPr>
          <a:xfrm>
            <a:off x="1776240" y="5519520"/>
            <a:ext cx="5882760" cy="481320"/>
            <a:chOff x="1776240" y="5519520"/>
            <a:chExt cx="5882760" cy="481320"/>
          </a:xfrm>
        </p:grpSpPr>
        <p:pic>
          <p:nvPicPr>
            <p:cNvPr id="552" name="Picture 15" descr=""/>
            <p:cNvPicPr/>
            <p:nvPr/>
          </p:nvPicPr>
          <p:blipFill>
            <a:blip r:embed="rId6"/>
            <a:stretch/>
          </p:blipFill>
          <p:spPr>
            <a:xfrm>
              <a:off x="1776240" y="5581800"/>
              <a:ext cx="186876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Rectangle 16"/>
            <p:cNvSpPr/>
            <p:nvPr/>
          </p:nvSpPr>
          <p:spPr>
            <a:xfrm>
              <a:off x="3717360" y="5519520"/>
              <a:ext cx="3941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Gill Sans"/>
                  <a:ea typeface="굴림"/>
                </a:rPr>
                <a:t>: the space of densities</a:t>
              </a:r>
              <a:endParaRPr b="0" lang="en-US" sz="29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54" name="Rectangle 18"/>
          <p:cNvSpPr/>
          <p:nvPr/>
        </p:nvSpPr>
        <p:spPr>
          <a:xfrm>
            <a:off x="2222640" y="235080"/>
            <a:ext cx="8559720" cy="14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Gill Sans"/>
                <a:ea typeface="굴림"/>
              </a:rPr>
              <a:t>A novel framework for diffeomorphic paths (cont’)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55" name="Group 23"/>
          <p:cNvGrpSpPr/>
          <p:nvPr/>
        </p:nvGrpSpPr>
        <p:grpSpPr>
          <a:xfrm>
            <a:off x="1787400" y="6249960"/>
            <a:ext cx="9610920" cy="787320"/>
            <a:chOff x="1787400" y="6249960"/>
            <a:chExt cx="9610920" cy="787320"/>
          </a:xfrm>
        </p:grpSpPr>
        <p:grpSp>
          <p:nvGrpSpPr>
            <p:cNvPr id="556" name="Group 21"/>
            <p:cNvGrpSpPr/>
            <p:nvPr/>
          </p:nvGrpSpPr>
          <p:grpSpPr>
            <a:xfrm>
              <a:off x="1787400" y="6300720"/>
              <a:ext cx="1292400" cy="304920"/>
              <a:chOff x="1787400" y="6300720"/>
              <a:chExt cx="1292400" cy="304920"/>
            </a:xfrm>
          </p:grpSpPr>
          <p:pic>
            <p:nvPicPr>
              <p:cNvPr id="557" name="Picture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787400" y="6300720"/>
                <a:ext cx="32220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8" name="Picture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2889360" y="6338880"/>
                <a:ext cx="190440" cy="26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59" name="Rectangle 22"/>
            <p:cNvSpPr/>
            <p:nvPr/>
          </p:nvSpPr>
          <p:spPr>
            <a:xfrm>
              <a:off x="2178000" y="6249960"/>
              <a:ext cx="92203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5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Gill Sans"/>
                  <a:ea typeface="굴림"/>
                </a:rPr>
                <a:t>and    :  initial ( identity map) and final points in the space of diffeomorphisms respectively</a:t>
              </a:r>
              <a:endParaRPr b="0" lang="en-US" sz="27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60" name="Group 30"/>
          <p:cNvGrpSpPr/>
          <p:nvPr/>
        </p:nvGrpSpPr>
        <p:grpSpPr>
          <a:xfrm>
            <a:off x="1944720" y="7224840"/>
            <a:ext cx="10376640" cy="894960"/>
            <a:chOff x="1944720" y="7224840"/>
            <a:chExt cx="10376640" cy="894960"/>
          </a:xfrm>
        </p:grpSpPr>
        <p:pic>
          <p:nvPicPr>
            <p:cNvPr id="561" name="Picture 24" descr=""/>
            <p:cNvPicPr/>
            <p:nvPr/>
          </p:nvPicPr>
          <p:blipFill>
            <a:blip r:embed="rId9"/>
            <a:stretch/>
          </p:blipFill>
          <p:spPr>
            <a:xfrm>
              <a:off x="1944720" y="7334280"/>
              <a:ext cx="600120" cy="3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Rectangle 25"/>
            <p:cNvSpPr/>
            <p:nvPr/>
          </p:nvSpPr>
          <p:spPr>
            <a:xfrm>
              <a:off x="2381400" y="7224840"/>
              <a:ext cx="72014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7000"/>
            </a:bodyPr>
            <a:p>
              <a:pPr marL="33264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Gill Sans"/>
                  <a:ea typeface="굴림"/>
                </a:rPr>
                <a:t>: a diffeomorphic path to be estimated with given  boundaries as </a:t>
              </a:r>
              <a:endParaRPr b="0" lang="en-US" sz="29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563" name="Group 29"/>
            <p:cNvGrpSpPr/>
            <p:nvPr/>
          </p:nvGrpSpPr>
          <p:grpSpPr>
            <a:xfrm>
              <a:off x="7102800" y="7662600"/>
              <a:ext cx="5218560" cy="457200"/>
              <a:chOff x="7102800" y="7662600"/>
              <a:chExt cx="5218560" cy="457200"/>
            </a:xfrm>
          </p:grpSpPr>
          <p:pic>
            <p:nvPicPr>
              <p:cNvPr id="564" name="Picture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174320" y="7723080"/>
                <a:ext cx="2147040" cy="39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5" name="Picture 27" descr=""/>
              <p:cNvPicPr/>
              <p:nvPr/>
            </p:nvPicPr>
            <p:blipFill>
              <a:blip r:embed="rId11"/>
              <a:stretch/>
            </p:blipFill>
            <p:spPr>
              <a:xfrm>
                <a:off x="7102800" y="7732440"/>
                <a:ext cx="2135880" cy="38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6" name="Rectangle 28"/>
              <p:cNvSpPr/>
              <p:nvPr/>
            </p:nvSpPr>
            <p:spPr>
              <a:xfrm>
                <a:off x="9300240" y="7662600"/>
                <a:ext cx="685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Gill Sans"/>
                    <a:ea typeface="굴림"/>
                  </a:rPr>
                  <a:t>and</a:t>
                </a:r>
                <a:endParaRPr b="0" lang="en-US" sz="30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grpSp>
        <p:nvGrpSpPr>
          <p:cNvPr id="567" name="Group 34"/>
          <p:cNvGrpSpPr/>
          <p:nvPr/>
        </p:nvGrpSpPr>
        <p:grpSpPr>
          <a:xfrm>
            <a:off x="1994040" y="8297640"/>
            <a:ext cx="7588080" cy="466920"/>
            <a:chOff x="1994040" y="8297640"/>
            <a:chExt cx="7588080" cy="466920"/>
          </a:xfrm>
        </p:grpSpPr>
        <p:pic>
          <p:nvPicPr>
            <p:cNvPr id="568" name="Picture 31" descr=""/>
            <p:cNvPicPr/>
            <p:nvPr/>
          </p:nvPicPr>
          <p:blipFill>
            <a:blip r:embed="rId12"/>
            <a:stretch/>
          </p:blipFill>
          <p:spPr>
            <a:xfrm>
              <a:off x="1994040" y="8407440"/>
              <a:ext cx="92700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Rectangle 32"/>
            <p:cNvSpPr/>
            <p:nvPr/>
          </p:nvSpPr>
          <p:spPr>
            <a:xfrm>
              <a:off x="2864160" y="8297640"/>
              <a:ext cx="64260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Gill Sans"/>
                  <a:ea typeface="굴림"/>
                </a:rPr>
                <a:t>:  the determinant of the Jacobian of  </a:t>
              </a:r>
              <a:endParaRPr b="0" lang="en-US" sz="29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570" name="Picture 33" descr=""/>
            <p:cNvPicPr/>
            <p:nvPr/>
          </p:nvPicPr>
          <p:blipFill>
            <a:blip r:embed="rId13"/>
            <a:stretch/>
          </p:blipFill>
          <p:spPr>
            <a:xfrm>
              <a:off x="9023400" y="8408880"/>
              <a:ext cx="558720" cy="355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995040" y="2177640"/>
            <a:ext cx="1022364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굴림"/>
              </a:rPr>
              <a:t>Step 1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lvl="1" marL="1293120" indent="-554040">
              <a:spcBef>
                <a:spcPts val="25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굴림"/>
              </a:rPr>
              <a:t>Introducing a map,    which projects diffeomorphisms onto              which is equal to                        .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lvl="1" marL="1293120" indent="0">
              <a:spcBef>
                <a:spcPts val="2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93120" indent="0">
              <a:spcBef>
                <a:spcPts val="2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93120" indent="-554040">
              <a:spcBef>
                <a:spcPts val="25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굴림"/>
              </a:rPr>
              <a:t>            </a:t>
            </a: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굴림"/>
              </a:rPr>
              <a:t>: the unit sphere in a Hilbert space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lvl="1" marL="1293120" indent="-554040">
              <a:spcBef>
                <a:spcPts val="25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굴림"/>
              </a:rPr>
              <a:t>    </a:t>
            </a: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굴림"/>
              </a:rPr>
              <a:t>: a great circle connecting        and 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Rectangle 2"/>
          <p:cNvSpPr/>
          <p:nvPr/>
        </p:nvSpPr>
        <p:spPr>
          <a:xfrm>
            <a:off x="2222640" y="235080"/>
            <a:ext cx="8559720" cy="14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Gill Sans"/>
                <a:ea typeface="굴림"/>
              </a:rPr>
              <a:t>A novel framework for diffeomorphic paths (cont’)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3" name="Picture 3" descr=""/>
          <p:cNvPicPr/>
          <p:nvPr/>
        </p:nvPicPr>
        <p:blipFill>
          <a:blip r:embed="rId1"/>
          <a:stretch/>
        </p:blipFill>
        <p:spPr>
          <a:xfrm>
            <a:off x="6107040" y="3251160"/>
            <a:ext cx="279360" cy="3175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4" descr=""/>
          <p:cNvPicPr/>
          <p:nvPr/>
        </p:nvPicPr>
        <p:blipFill>
          <a:blip r:embed="rId2"/>
          <a:stretch/>
        </p:blipFill>
        <p:spPr>
          <a:xfrm>
            <a:off x="6718320" y="3772080"/>
            <a:ext cx="1415880" cy="3171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5" descr=""/>
          <p:cNvPicPr/>
          <p:nvPr/>
        </p:nvPicPr>
        <p:blipFill>
          <a:blip r:embed="rId3"/>
          <a:stretch/>
        </p:blipFill>
        <p:spPr>
          <a:xfrm>
            <a:off x="2878200" y="4300560"/>
            <a:ext cx="2760480" cy="317520"/>
          </a:xfrm>
          <a:prstGeom prst="rect">
            <a:avLst/>
          </a:prstGeom>
          <a:ln w="0">
            <a:noFill/>
          </a:ln>
        </p:spPr>
      </p:pic>
      <p:grpSp>
        <p:nvGrpSpPr>
          <p:cNvPr id="576" name="Group 8"/>
          <p:cNvGrpSpPr/>
          <p:nvPr/>
        </p:nvGrpSpPr>
        <p:grpSpPr>
          <a:xfrm>
            <a:off x="3630600" y="4889520"/>
            <a:ext cx="5740560" cy="1485360"/>
            <a:chOff x="3630600" y="4889520"/>
            <a:chExt cx="5740560" cy="1485360"/>
          </a:xfrm>
        </p:grpSpPr>
        <p:pic>
          <p:nvPicPr>
            <p:cNvPr id="577" name="Picture 6" descr=""/>
            <p:cNvPicPr/>
            <p:nvPr/>
          </p:nvPicPr>
          <p:blipFill>
            <a:blip r:embed="rId4"/>
            <a:stretch/>
          </p:blipFill>
          <p:spPr>
            <a:xfrm>
              <a:off x="5291280" y="5700240"/>
              <a:ext cx="233496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7" descr=""/>
            <p:cNvPicPr/>
            <p:nvPr/>
          </p:nvPicPr>
          <p:blipFill>
            <a:blip r:embed="rId5"/>
            <a:stretch/>
          </p:blipFill>
          <p:spPr>
            <a:xfrm>
              <a:off x="3630600" y="4889520"/>
              <a:ext cx="5740560" cy="67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9" name="Picture 9" descr=""/>
          <p:cNvPicPr/>
          <p:nvPr/>
        </p:nvPicPr>
        <p:blipFill>
          <a:blip r:embed="rId6"/>
          <a:stretch/>
        </p:blipFill>
        <p:spPr>
          <a:xfrm>
            <a:off x="2325600" y="7080120"/>
            <a:ext cx="1416240" cy="3175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0" descr=""/>
          <p:cNvPicPr/>
          <p:nvPr/>
        </p:nvPicPr>
        <p:blipFill>
          <a:blip r:embed="rId7"/>
          <a:stretch/>
        </p:blipFill>
        <p:spPr>
          <a:xfrm>
            <a:off x="2254320" y="7897680"/>
            <a:ext cx="571320" cy="3636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1" descr=""/>
          <p:cNvPicPr/>
          <p:nvPr/>
        </p:nvPicPr>
        <p:blipFill>
          <a:blip r:embed="rId8"/>
          <a:stretch/>
        </p:blipFill>
        <p:spPr>
          <a:xfrm>
            <a:off x="8102520" y="7889760"/>
            <a:ext cx="631800" cy="3715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2" descr=""/>
          <p:cNvPicPr/>
          <p:nvPr/>
        </p:nvPicPr>
        <p:blipFill>
          <a:blip r:embed="rId9"/>
          <a:stretch/>
        </p:blipFill>
        <p:spPr>
          <a:xfrm>
            <a:off x="9844200" y="7900920"/>
            <a:ext cx="761760" cy="3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260080" y="-114480"/>
            <a:ext cx="8471160" cy="204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Gill Sans"/>
                <a:ea typeface="굴림"/>
              </a:rPr>
              <a:t>A novel framework for diffeomorphic paths (cont’)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245960" y="1852200"/>
            <a:ext cx="10464840" cy="7823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"/>
                <a:ea typeface="굴림"/>
              </a:rPr>
              <a:t>Step 2</a:t>
            </a: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spcBef>
                <a:spcPts val="11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"/>
                <a:ea typeface="굴림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Gill Sans"/>
                <a:ea typeface="굴림"/>
              </a:rPr>
              <a:t>is bilinear equation. </a:t>
            </a: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spcBef>
                <a:spcPts val="11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"/>
                <a:ea typeface="굴림"/>
              </a:rPr>
              <a:t>     </a:t>
            </a:r>
            <a:r>
              <a:rPr b="0" lang="en-US" sz="3100" spc="-1" strike="noStrike">
                <a:solidFill>
                  <a:srgbClr val="000000"/>
                </a:solidFill>
                <a:latin typeface="Gill Sans"/>
                <a:ea typeface="굴림"/>
              </a:rPr>
              <a:t>cannot be solved from       directly.</a:t>
            </a: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spcBef>
                <a:spcPts val="11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"/>
                <a:ea typeface="굴림"/>
              </a:rPr>
              <a:t>Additional constraint is required to lift        to the space of diffeomorphisms. </a:t>
            </a: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  <a:p>
            <a:pPr lvl="2" marL="1778040" indent="-571680">
              <a:spcBef>
                <a:spcPts val="11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"/>
                <a:ea typeface="굴림"/>
              </a:rPr>
              <a:t>   </a:t>
            </a:r>
            <a:r>
              <a:rPr b="0" lang="en-US" sz="3100" spc="-1" strike="noStrike">
                <a:solidFill>
                  <a:srgbClr val="000000"/>
                </a:solidFill>
                <a:latin typeface="Gill Sans"/>
                <a:ea typeface="굴림"/>
              </a:rPr>
              <a:t>smoothness constraint of the deformation vector fields over time is adopted. </a:t>
            </a: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spcBef>
                <a:spcPts val="11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"/>
                <a:ea typeface="굴림"/>
              </a:rPr>
              <a:t>It can be posed as a quadratic program with bilinear constraints : </a:t>
            </a: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5" name="Picture 3" descr=""/>
          <p:cNvPicPr/>
          <p:nvPr/>
        </p:nvPicPr>
        <p:blipFill>
          <a:blip r:embed="rId1"/>
          <a:stretch/>
        </p:blipFill>
        <p:spPr>
          <a:xfrm>
            <a:off x="2489040" y="3200400"/>
            <a:ext cx="636840" cy="4064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4" descr=""/>
          <p:cNvPicPr/>
          <p:nvPr/>
        </p:nvPicPr>
        <p:blipFill>
          <a:blip r:embed="rId2"/>
          <a:stretch/>
        </p:blipFill>
        <p:spPr>
          <a:xfrm>
            <a:off x="7078680" y="3200400"/>
            <a:ext cx="636480" cy="4064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5" descr=""/>
          <p:cNvPicPr/>
          <p:nvPr/>
        </p:nvPicPr>
        <p:blipFill>
          <a:blip r:embed="rId3"/>
          <a:stretch/>
        </p:blipFill>
        <p:spPr>
          <a:xfrm>
            <a:off x="2387520" y="2603520"/>
            <a:ext cx="636840" cy="40644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6" descr=""/>
          <p:cNvPicPr/>
          <p:nvPr/>
        </p:nvPicPr>
        <p:blipFill>
          <a:blip r:embed="rId4"/>
          <a:stretch/>
        </p:blipFill>
        <p:spPr>
          <a:xfrm>
            <a:off x="9178920" y="3797280"/>
            <a:ext cx="636480" cy="40644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7" descr=""/>
          <p:cNvPicPr/>
          <p:nvPr/>
        </p:nvPicPr>
        <p:blipFill>
          <a:blip r:embed="rId5"/>
          <a:stretch/>
        </p:blipFill>
        <p:spPr>
          <a:xfrm>
            <a:off x="2870280" y="4927680"/>
            <a:ext cx="368280" cy="3096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8" descr=""/>
          <p:cNvPicPr/>
          <p:nvPr/>
        </p:nvPicPr>
        <p:blipFill>
          <a:blip r:embed="rId6"/>
          <a:stretch/>
        </p:blipFill>
        <p:spPr>
          <a:xfrm>
            <a:off x="4000680" y="7062840"/>
            <a:ext cx="5003640" cy="1490760"/>
          </a:xfrm>
          <a:prstGeom prst="rect">
            <a:avLst/>
          </a:prstGeom>
          <a:ln w="0">
            <a:noFill/>
          </a:ln>
        </p:spPr>
      </p:pic>
      <p:grpSp>
        <p:nvGrpSpPr>
          <p:cNvPr id="591" name="Group 11"/>
          <p:cNvGrpSpPr/>
          <p:nvPr/>
        </p:nvGrpSpPr>
        <p:grpSpPr>
          <a:xfrm>
            <a:off x="2869200" y="8922960"/>
            <a:ext cx="7085520" cy="442080"/>
            <a:chOff x="2869200" y="8922960"/>
            <a:chExt cx="7085520" cy="442080"/>
          </a:xfrm>
        </p:grpSpPr>
        <p:pic>
          <p:nvPicPr>
            <p:cNvPr id="592" name="Picture 9" descr=""/>
            <p:cNvPicPr/>
            <p:nvPr/>
          </p:nvPicPr>
          <p:blipFill>
            <a:blip r:embed="rId7"/>
            <a:stretch/>
          </p:blipFill>
          <p:spPr>
            <a:xfrm>
              <a:off x="6524280" y="8996400"/>
              <a:ext cx="3430440" cy="3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Rectangle 10"/>
            <p:cNvSpPr/>
            <p:nvPr/>
          </p:nvSpPr>
          <p:spPr>
            <a:xfrm>
              <a:off x="2869200" y="8922960"/>
              <a:ext cx="37054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Gill Sans"/>
                  <a:ea typeface="굴림"/>
                </a:rPr>
                <a:t>with the definition of </a:t>
              </a:r>
              <a:endParaRPr b="0" lang="en-US" sz="29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4" name="AutoShape 12"/>
          <p:cNvSpPr/>
          <p:nvPr/>
        </p:nvSpPr>
        <p:spPr>
          <a:xfrm>
            <a:off x="2095560" y="6915240"/>
            <a:ext cx="9042480" cy="2641680"/>
          </a:xfrm>
          <a:prstGeom prst="roundRect">
            <a:avLst>
              <a:gd name="adj" fmla="val 7204"/>
            </a:avLst>
          </a:prstGeom>
          <a:noFill/>
          <a:ln w="25560">
            <a:solidFill>
              <a:srgbClr val="cb06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Windows 사용자</cp:lastModifiedBy>
  <dcterms:modified xsi:type="dcterms:W3CDTF">2012-11-22T21:57:26Z</dcterms:modified>
  <cp:revision>10</cp:revision>
  <dc:subject/>
  <dc:title>Computing Diffeomorphic Paths for Large Motion Interpolation </dc:title>
</cp:coreProperties>
</file>