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A10-2CF5-4849-B587-156C92A8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BB8-2637-4075-A3BE-9FD0ABA1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91C-71F3-4DE9-9087-65742E10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8B6-E9F5-429A-9B56-34D1BBD0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3E4-EE10-4451-8D15-75BF8C10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679-C6CF-4E77-B928-0835B983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5CF-F28F-4115-BF25-CD834708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38A-70D6-4E0C-90DA-69A29B31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6AB-0B99-45DF-8C5B-7E957C18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53A-FE79-4550-92B6-9EA80EBF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57F-F5D6-4C6C-9D9D-D14468F9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EEE-CC73-4048-A80E-748ADD70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E90B-989C-4924-A56B-A51661C0F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deo Figure V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989000"/>
            <a:ext cx="784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SCA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We show inference using the parameters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of three classes: “tree”, ”schooner”, ”bi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nly 5 iterations of equations (6)-(9) are needed, requiring less computation than SIFT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lexity: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718400" y="2921040"/>
                <a:ext cx="8859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683240" y="5548320"/>
                <a:ext cx="1976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ixel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12638" t="7217" r="8866" b="11002"/>
          <a:stretch/>
        </p:blipFill>
        <p:spPr>
          <a:xfrm>
            <a:off x="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12658" t="7194" r="9670" b="11188"/>
          <a:stretch/>
        </p:blipFill>
        <p:spPr>
          <a:xfrm>
            <a:off x="0" y="0"/>
            <a:ext cx="551988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12669" t="3343" r="9169" b="10436"/>
          <a:stretch/>
        </p:blipFill>
        <p:spPr>
          <a:xfrm>
            <a:off x="5494320" y="946080"/>
            <a:ext cx="3649680" cy="5457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4076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31400" y="19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45800" y="258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45800" y="319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6080" y="380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0480" y="44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50480" y="498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4076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5516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344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2504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3944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39440" y="283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9720" y="3397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44120" y="400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44120" y="459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34400" y="517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48800" y="580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12669" t="0" r="9169" b="10312"/>
          <a:stretch/>
        </p:blipFill>
        <p:spPr>
          <a:xfrm>
            <a:off x="5545080" y="682560"/>
            <a:ext cx="3598920" cy="5718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12632" t="7298" r="9643" b="11054"/>
          <a:stretch/>
        </p:blipFill>
        <p:spPr>
          <a:xfrm>
            <a:off x="0" y="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4076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31400" y="19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45800" y="258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45800" y="319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36080" y="380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0480" y="44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0480" y="498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4076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516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344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2504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3944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39440" y="283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29720" y="3397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44120" y="400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44120" y="459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34400" y="517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48800" y="580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12652" t="7298" r="8866" b="11078"/>
          <a:stretch/>
        </p:blipFill>
        <p:spPr>
          <a:xfrm>
            <a:off x="0" y="0"/>
            <a:ext cx="55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rcRect l="12669" t="3326" r="9169" b="10635"/>
          <a:stretch/>
        </p:blipFill>
        <p:spPr>
          <a:xfrm>
            <a:off x="5532480" y="906480"/>
            <a:ext cx="3611520" cy="5513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4076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31400" y="19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45800" y="258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45800" y="319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36080" y="380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0480" y="44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50480" y="498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4076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5516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344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504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3944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39440" y="283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9720" y="3397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4120" y="400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44120" y="459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34400" y="517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48800" y="580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12652" t="7298" r="9636" b="11234"/>
          <a:stretch/>
        </p:blipFill>
        <p:spPr>
          <a:xfrm>
            <a:off x="0" y="0"/>
            <a:ext cx="553068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12669" t="3326" r="9169" b="10885"/>
          <a:stretch/>
        </p:blipFill>
        <p:spPr>
          <a:xfrm>
            <a:off x="5530680" y="914400"/>
            <a:ext cx="3613320" cy="5497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4076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31400" y="19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45800" y="258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45800" y="319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36080" y="380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50480" y="44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50480" y="498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4076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5516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344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504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3944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39440" y="283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29720" y="3397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44120" y="400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44120" y="459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34400" y="517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48800" y="580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lass “bir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12832" t="7217" r="9663" b="11020"/>
          <a:stretch/>
        </p:blipFill>
        <p:spPr>
          <a:xfrm>
            <a:off x="0" y="0"/>
            <a:ext cx="568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12813" t="7275" r="9656" b="11078"/>
          <a:stretch/>
        </p:blipFill>
        <p:spPr>
          <a:xfrm>
            <a:off x="0" y="0"/>
            <a:ext cx="562608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rcRect l="12893" t="3326" r="9169" b="10885"/>
          <a:stretch/>
        </p:blipFill>
        <p:spPr>
          <a:xfrm>
            <a:off x="5648400" y="932040"/>
            <a:ext cx="3495600" cy="5468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3960" y="142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74240" y="199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88640" y="259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88640" y="3205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78920" y="3814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933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93320" y="49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83960" y="56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98000" y="621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1640" y="110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2280" y="170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6320" y="228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9632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86960" y="345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01360" y="405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01360" y="46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91640" y="523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06040" y="586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12845" t="7298" r="9605" b="11130"/>
          <a:stretch/>
        </p:blipFill>
        <p:spPr>
          <a:xfrm>
            <a:off x="0" y="0"/>
            <a:ext cx="561168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rcRect l="12669" t="3326" r="9270" b="10862"/>
          <a:stretch/>
        </p:blipFill>
        <p:spPr>
          <a:xfrm>
            <a:off x="5607000" y="915840"/>
            <a:ext cx="3537000" cy="5472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83960" y="142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74240" y="199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88640" y="259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88640" y="3205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78920" y="3814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933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93320" y="49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83960" y="56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98000" y="621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91640" y="110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82280" y="170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96320" y="228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9632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86960" y="345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01360" y="405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01360" y="46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91640" y="523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06040" y="586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rcRect l="12832" t="7368" r="9643" b="11020"/>
          <a:stretch/>
        </p:blipFill>
        <p:spPr>
          <a:xfrm>
            <a:off x="0" y="0"/>
            <a:ext cx="562932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rcRect l="12669" t="3326" r="8778" b="10862"/>
          <a:stretch/>
        </p:blipFill>
        <p:spPr>
          <a:xfrm>
            <a:off x="5622840" y="919080"/>
            <a:ext cx="3521160" cy="5470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83960" y="142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74240" y="199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88640" y="259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8640" y="3205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78920" y="3814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933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393320" y="49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3960" y="56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98000" y="621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91640" y="110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2280" y="170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96320" y="228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9632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86960" y="345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01360" y="405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01360" y="46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91640" y="523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06040" y="586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SCA I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12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or each class w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e evolution of         and of the palettes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for 3 Positive examples and 6 Negative examples through 5 iterations of (6)-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e two parts of the Free energy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833640" y="2217600"/>
                <a:ext cx="8035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27320" y="2622600"/>
                <a:ext cx="591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74680" y="4829040"/>
                <a:ext cx="73407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pear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38240" y="5645160"/>
                <a:ext cx="8932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hap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 {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12851" t="7217" r="9643" b="11037"/>
          <a:stretch/>
        </p:blipFill>
        <p:spPr>
          <a:xfrm>
            <a:off x="0" y="0"/>
            <a:ext cx="561348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rcRect l="12669" t="3553" r="9169" b="10862"/>
          <a:stretch/>
        </p:blipFill>
        <p:spPr>
          <a:xfrm>
            <a:off x="5613480" y="934920"/>
            <a:ext cx="3530520" cy="54579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83960" y="142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74240" y="199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8640" y="259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88640" y="3205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78920" y="3814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933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93320" y="49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83960" y="56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98000" y="621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91640" y="110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82280" y="170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96320" y="228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9632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960" y="345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01360" y="405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01360" y="46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640" y="523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06040" y="586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lass “tre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2752" t="7292" r="9562" b="11112"/>
          <a:stretch/>
        </p:blipFill>
        <p:spPr>
          <a:xfrm>
            <a:off x="0" y="0"/>
            <a:ext cx="5554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2652" t="7298" r="9636" b="11037"/>
          <a:stretch/>
        </p:blipFill>
        <p:spPr>
          <a:xfrm>
            <a:off x="0" y="0"/>
            <a:ext cx="55990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2669" t="3303" r="9169" b="10487"/>
          <a:stretch/>
        </p:blipFill>
        <p:spPr>
          <a:xfrm>
            <a:off x="5602320" y="851040"/>
            <a:ext cx="3541680" cy="556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83960" y="13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74240" y="196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8640" y="257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88640" y="31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78920" y="378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3320" y="43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3320" y="49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83960" y="557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8000" y="618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77240" y="99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67880" y="160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8228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2280" y="28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72560" y="342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86960" y="403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8696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77240" y="521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1640" y="582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2652" t="7298" r="9629" b="11205"/>
          <a:stretch/>
        </p:blipFill>
        <p:spPr>
          <a:xfrm>
            <a:off x="0" y="0"/>
            <a:ext cx="559908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12669" t="3280" r="9169" b="10539"/>
          <a:stretch/>
        </p:blipFill>
        <p:spPr>
          <a:xfrm>
            <a:off x="5605560" y="825480"/>
            <a:ext cx="3538440" cy="5619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83960" y="13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74240" y="196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88640" y="257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8640" y="31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78920" y="378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3320" y="43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3320" y="49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83960" y="557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8000" y="618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77240" y="99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67880" y="160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228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82280" y="28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72560" y="342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86960" y="403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8696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77240" y="521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91640" y="582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2658" t="7345" r="9817" b="11037"/>
          <a:stretch/>
        </p:blipFill>
        <p:spPr>
          <a:xfrm>
            <a:off x="0" y="0"/>
            <a:ext cx="56008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12669" t="3275" r="9169" b="10312"/>
          <a:stretch/>
        </p:blipFill>
        <p:spPr>
          <a:xfrm>
            <a:off x="5614920" y="825480"/>
            <a:ext cx="3529080" cy="563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83960" y="13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74240" y="196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8640" y="257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8640" y="31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78920" y="378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3320" y="43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93320" y="49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3960" y="557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8000" y="618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77240" y="99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7880" y="160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228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2280" y="28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72560" y="342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86960" y="403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96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77240" y="521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1640" y="582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12685" t="7298" r="9609" b="11130"/>
          <a:stretch/>
        </p:blipFill>
        <p:spPr>
          <a:xfrm>
            <a:off x="0" y="0"/>
            <a:ext cx="559908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12669" t="3275" r="9169" b="10312"/>
          <a:stretch/>
        </p:blipFill>
        <p:spPr>
          <a:xfrm>
            <a:off x="5600880" y="825480"/>
            <a:ext cx="3543120" cy="560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3960" y="13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74240" y="196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88640" y="257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8640" y="31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78920" y="378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3320" y="43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3320" y="49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3960" y="557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8000" y="618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77240" y="99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67880" y="160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228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2280" y="28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2560" y="342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6960" y="403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96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77240" y="521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91640" y="582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lass “schoon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0:53:50Z</dcterms:created>
  <dc:creator>Alessandro Perina</dc:creator>
  <dc:description/>
  <dc:language>en-US</dc:language>
  <cp:lastModifiedBy>Alessandro Perina</cp:lastModifiedBy>
  <dcterms:modified xsi:type="dcterms:W3CDTF">2008-11-26T21:10:47Z</dcterms:modified>
  <cp:revision>10</cp:revision>
  <dc:subject/>
  <dc:title>Video Figure V3</dc:title>
</cp:coreProperties>
</file>